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4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35.wmf" ContentType="image/x-wmf"/>
  <Override PartName="/ppt/media/image15.jpeg" ContentType="image/jpeg"/>
  <Override PartName="/ppt/media/image14.jpeg" ContentType="image/jpeg"/>
  <Override PartName="/ppt/media/image12.png" ContentType="image/png"/>
  <Override PartName="/ppt/media/image20.jpeg" ContentType="image/jpeg"/>
  <Override PartName="/ppt/media/image32.wmf" ContentType="image/x-wmf"/>
  <Override PartName="/ppt/media/image33.wmf" ContentType="image/x-wmf"/>
  <Override PartName="/ppt/media/image34.wmf" ContentType="image/x-wmf"/>
  <Override PartName="/ppt/media/image36.wmf" ContentType="image/x-wmf"/>
  <Override PartName="/ppt/media/image37.wmf" ContentType="image/x-wmf"/>
  <Override PartName="/ppt/media/image41.png" ContentType="image/png"/>
  <Override PartName="/ppt/media/image42.png" ContentType="image/png"/>
  <Override PartName="/ppt/media/image2.jpeg" ContentType="image/jpeg"/>
  <Override PartName="/ppt/media/image4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38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29.wmf" ContentType="image/x-wmf"/>
  <Override PartName="/ppt/media/image1.wmf" ContentType="image/x-wmf"/>
  <Override PartName="/ppt/media/image7.jpeg" ContentType="image/jpeg"/>
  <Override PartName="/ppt/media/image28.png" ContentType="image/png"/>
  <Override PartName="/ppt/media/image31.wmf" ContentType="image/x-wmf"/>
  <Override PartName="/ppt/media/image5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.png" ContentType="image/png"/>
  <Override PartName="/ppt/media/image2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B6FC-33C1-48F4-B780-AD0C85E03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mo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a new effort sweeping across the Caroli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he region into an instrumented model test bed for coastal process model development and eval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focus:  Bring observations and model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is effort spans the Army Corps, NOAA, as well as several departments within the academic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describing process and criteria for organization, coordination, and development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describing process and criteria for organization, coordination, and development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21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21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4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5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4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5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21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76520" y="76320"/>
            <a:ext cx="5867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21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921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21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921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921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74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65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74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65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921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76520" y="76320"/>
            <a:ext cx="5867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921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921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921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921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921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921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748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865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748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865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21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76520" y="76320"/>
            <a:ext cx="5867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216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216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990720"/>
            <a:ext cx="9144000" cy="75960"/>
            <a:chOff x="0" y="990720"/>
            <a:chExt cx="9144000" cy="75960"/>
          </a:xfrm>
        </p:grpSpPr>
        <p:sp>
          <p:nvSpPr>
            <p:cNvPr id="4" name=""/>
            <p:cNvSpPr/>
            <p:nvPr/>
          </p:nvSpPr>
          <p:spPr>
            <a:xfrm>
              <a:off x="0" y="990720"/>
              <a:ext cx="9144000" cy="0"/>
            </a:xfrm>
            <a:prstGeom prst="line">
              <a:avLst/>
            </a:prstGeom>
            <a:ln w="38160">
              <a:solidFill>
                <a:srgbClr val="2a6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028520"/>
              <a:ext cx="9144000" cy="0"/>
            </a:xfrm>
            <a:prstGeom prst="line">
              <a:avLst/>
            </a:prstGeom>
            <a:ln w="38160">
              <a:solidFill>
                <a:srgbClr val="dccf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066680"/>
              <a:ext cx="9144000" cy="0"/>
            </a:xfrm>
            <a:prstGeom prst="line">
              <a:avLst/>
            </a:prstGeom>
            <a:ln w="38160">
              <a:solidFill>
                <a:srgbClr val="495b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800" y="622440"/>
            <a:ext cx="159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US Army Engineer Researc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Arial"/>
              </a:rPr>
              <a:t>and Development Cen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761760" cy="57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638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ff"/>
                </a:solidFill>
                <a:latin typeface="Arial"/>
              </a:rPr>
              <a:t>2008 COMET Kick-Off Meeting, NWS Morehead-City, February 8</a:t>
            </a:r>
            <a:r>
              <a:rPr b="1" i="1" lang="en-US" sz="1400" spc="-1" strike="noStrike" baseline="30000">
                <a:solidFill>
                  <a:srgbClr val="cc00ff"/>
                </a:solidFill>
                <a:latin typeface="Arial"/>
              </a:rPr>
              <a:t>th</a:t>
            </a:r>
            <a:r>
              <a:rPr b="1" i="1" lang="en-US" sz="1400" spc="-1" strike="noStrike">
                <a:solidFill>
                  <a:srgbClr val="cc00ff"/>
                </a:solidFill>
                <a:latin typeface="Arial"/>
              </a:rPr>
              <a:t> 2008</a:t>
            </a:r>
            <a:r>
              <a:rPr b="0" lang="en-US" sz="1400" spc="-1" strike="noStrike">
                <a:solidFill>
                  <a:srgbClr val="cc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52480" cy="60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8305920" y="0"/>
            <a:ext cx="838080" cy="638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ff"/>
                </a:solidFill>
                <a:latin typeface="Arial"/>
              </a:rPr>
              <a:t>2008 EASTERN REGION MARINE WORKSHOP NORFOLK, VA, May 20-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752480" cy="603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5.wmf"/><Relationship Id="rId9" Type="http://schemas.openxmlformats.org/officeDocument/2006/relationships/image" Target="../media/image36.wmf"/><Relationship Id="rId10" Type="http://schemas.openxmlformats.org/officeDocument/2006/relationships/image" Target="../media/image37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image" Target="../media/image35.wmf"/><Relationship Id="rId16" Type="http://schemas.openxmlformats.org/officeDocument/2006/relationships/image" Target="../media/image36.wmf"/><Relationship Id="rId17" Type="http://schemas.openxmlformats.org/officeDocument/2006/relationships/image" Target="../media/image38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28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763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oastal Wave Energy Dissipation: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Observations and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228600" y="2058840"/>
            <a:ext cx="41148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effrey L Ha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 Army Corps of Engine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ield Research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Kent K. Hath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 Army Corps of Engine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ield Research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arry C. Fr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S Army Corps of Engine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hiladelphia Distri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57895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Annual National Conference on Beach Preservation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ebruary 3-5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lbourne, Flor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657600" y="1770120"/>
            <a:ext cx="4952880" cy="3092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326480" y="1752480"/>
            <a:ext cx="35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ACE Field Research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Nor’easter Wind Sea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772400" cy="5829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371600" y="11430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447920" y="14479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Nor’easter Wind Sea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ave Transformation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38080" y="1085760"/>
            <a:ext cx="7696440" cy="5772240"/>
          </a:xfrm>
          <a:prstGeom prst="rect">
            <a:avLst/>
          </a:prstGeom>
          <a:ln w="0">
            <a:noFill/>
          </a:ln>
        </p:spPr>
      </p:pic>
      <p:grpSp>
        <p:nvGrpSpPr>
          <p:cNvPr id="270" name=""/>
          <p:cNvGrpSpPr/>
          <p:nvPr/>
        </p:nvGrpSpPr>
        <p:grpSpPr>
          <a:xfrm>
            <a:off x="5244840" y="1643760"/>
            <a:ext cx="2302920" cy="1844280"/>
            <a:chOff x="5244840" y="1643760"/>
            <a:chExt cx="2302920" cy="1844280"/>
          </a:xfrm>
        </p:grpSpPr>
        <p:sp>
          <p:nvSpPr>
            <p:cNvPr id="271" name=""/>
            <p:cNvSpPr/>
            <p:nvPr/>
          </p:nvSpPr>
          <p:spPr>
            <a:xfrm flipH="1">
              <a:off x="5565240" y="2994120"/>
              <a:ext cx="320400" cy="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62640" y="2754720"/>
              <a:ext cx="1185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Refraction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ottom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ri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885640" y="2594880"/>
              <a:ext cx="1522440" cy="0"/>
            </a:xfrm>
            <a:prstGeom prst="line">
              <a:avLst/>
            </a:prstGeom>
            <a:ln w="7632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5241960" y="1966680"/>
              <a:ext cx="95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Shoa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86000" y="1877040"/>
              <a:ext cx="0" cy="1595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65240" y="1877040"/>
              <a:ext cx="0" cy="1595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244840" y="3233160"/>
              <a:ext cx="32004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4902840" y="2032560"/>
              <a:ext cx="99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Break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Nor’easter Swell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762120" y="1085760"/>
            <a:ext cx="7696080" cy="57722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447920" y="11430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Nor’easter Swell Transformation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762120" y="1104840"/>
            <a:ext cx="7619760" cy="5715000"/>
          </a:xfrm>
          <a:prstGeom prst="rect">
            <a:avLst/>
          </a:prstGeom>
          <a:ln w="0">
            <a:noFill/>
          </a:ln>
        </p:spPr>
      </p:pic>
      <p:grpSp>
        <p:nvGrpSpPr>
          <p:cNvPr id="285" name=""/>
          <p:cNvGrpSpPr/>
          <p:nvPr/>
        </p:nvGrpSpPr>
        <p:grpSpPr>
          <a:xfrm>
            <a:off x="5170320" y="1904760"/>
            <a:ext cx="2606040" cy="1600200"/>
            <a:chOff x="5170320" y="1904760"/>
            <a:chExt cx="2606040" cy="1600200"/>
          </a:xfrm>
        </p:grpSpPr>
        <p:sp>
          <p:nvSpPr>
            <p:cNvPr id="286" name=""/>
            <p:cNvSpPr/>
            <p:nvPr/>
          </p:nvSpPr>
          <p:spPr>
            <a:xfrm flipV="1">
              <a:off x="6248520" y="19047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5170320" y="2143080"/>
              <a:ext cx="2606040" cy="1289520"/>
              <a:chOff x="5170320" y="2143080"/>
              <a:chExt cx="2606040" cy="1289520"/>
            </a:xfrm>
          </p:grpSpPr>
          <p:sp>
            <p:nvSpPr>
              <p:cNvPr id="288" name=""/>
              <p:cNvSpPr/>
              <p:nvPr/>
            </p:nvSpPr>
            <p:spPr>
              <a:xfrm flipH="1">
                <a:off x="5202360" y="2778480"/>
                <a:ext cx="1031040" cy="0"/>
              </a:xfrm>
              <a:prstGeom prst="line">
                <a:avLst/>
              </a:prstGeom>
              <a:ln w="7632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591240" y="2699280"/>
                <a:ext cx="11851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Refraction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Bottom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Fri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6233040" y="2143080"/>
                <a:ext cx="1110600" cy="0"/>
              </a:xfrm>
              <a:prstGeom prst="line">
                <a:avLst/>
              </a:prstGeom>
              <a:ln w="76320">
                <a:solidFill>
                  <a:srgbClr val="cc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170320" y="3096360"/>
                <a:ext cx="95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Shoal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371600" y="2286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TWAVE-FP Test 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533520" y="2590920"/>
            <a:ext cx="3200400" cy="3380760"/>
            <a:chOff x="533520" y="2590920"/>
            <a:chExt cx="3200400" cy="3380760"/>
          </a:xfrm>
        </p:grpSpPr>
        <p:sp>
          <p:nvSpPr>
            <p:cNvPr id="294" name=""/>
            <p:cNvSpPr/>
            <p:nvPr/>
          </p:nvSpPr>
          <p:spPr>
            <a:xfrm>
              <a:off x="533520" y="2590920"/>
              <a:ext cx="3200400" cy="338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del Set Up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uter Grid = 50x50 m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ner Grid = 25x25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Step = 0.5-1 ho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ved Spectra Locations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DIP Waverider 26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averider 17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WAC 11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WAC 08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WAC 06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WAC 05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9480" y="4559400"/>
              <a:ext cx="152640" cy="1522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9480" y="4788000"/>
              <a:ext cx="152640" cy="152280"/>
            </a:xfrm>
            <a:prstGeom prst="star5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9480" y="509256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532116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9480" y="554976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9480" y="5778360"/>
              <a:ext cx="76320" cy="76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228600" y="114156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ady State Waves - Full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ure refraction, shoaling, wave-wave interactions and bottom f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d by observations at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038480" y="2133720"/>
            <a:ext cx="4724640" cy="4572000"/>
            <a:chOff x="4038480" y="2133720"/>
            <a:chExt cx="4724640" cy="4572000"/>
          </a:xfrm>
        </p:grpSpPr>
        <p:grpSp>
          <p:nvGrpSpPr>
            <p:cNvPr id="303" name=""/>
            <p:cNvGrpSpPr/>
            <p:nvPr/>
          </p:nvGrpSpPr>
          <p:grpSpPr>
            <a:xfrm>
              <a:off x="4038480" y="2514960"/>
              <a:ext cx="4724640" cy="4190760"/>
              <a:chOff x="4038480" y="2514960"/>
              <a:chExt cx="4724640" cy="4190760"/>
            </a:xfrm>
          </p:grpSpPr>
          <p:pic>
            <p:nvPicPr>
              <p:cNvPr id="30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038480" y="2514960"/>
                <a:ext cx="4724640" cy="419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>
                <a:off x="4495680" y="4419720"/>
                <a:ext cx="1069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nner Gr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181480" y="2743560"/>
                <a:ext cx="1068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uter Gr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273640" y="4670640"/>
                <a:ext cx="503280" cy="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02200" y="3078360"/>
                <a:ext cx="505080" cy="18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495680" y="563904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ross-Shore Arra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5562720" y="5410080"/>
                <a:ext cx="30456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001000" y="3962520"/>
                <a:ext cx="152280" cy="152640"/>
              </a:xfrm>
              <a:prstGeom prst="star5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172200" y="5029560"/>
                <a:ext cx="152280" cy="152280"/>
              </a:xfrm>
              <a:prstGeom prst="star5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6257160" y="4800960"/>
              <a:ext cx="128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7-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averi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400160" y="3397320"/>
              <a:ext cx="128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6-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averi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334120" y="2133720"/>
              <a:ext cx="20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del Doma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371600" y="2286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Bottom Friction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" y="1141560"/>
            <a:ext cx="8915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performance of bottom friction source term (Manning’s Form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mportant is bottom friction across arr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bottom friction coefficient is optim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ning’s n:    0.0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 n ≥ 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" y="3733920"/>
            <a:ext cx="86868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e pure swell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wind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whitec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epth bre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tom friction as the primary dissip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600200" y="3049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elected Swell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066680" y="1068480"/>
            <a:ext cx="7086600" cy="55641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048120" y="31687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s = 1.7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p = 10.4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705720" y="32446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s = 2.3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p = 14.3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8120" y="59119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s = 1.4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p = 14.8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0" y="59878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s = 3.1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p = 18.0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10080" y="42051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rricane B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0" y="130968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r’easter – Long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43000" y="12952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r’easter – Short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066680" y="41911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tant Winter St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048120" y="152280"/>
            <a:ext cx="2514600" cy="8161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371600" y="11574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Interactive Model Evaluation and Diagnostics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397480" y="2013120"/>
            <a:ext cx="2730600" cy="2871720"/>
            <a:chOff x="5397480" y="2013120"/>
            <a:chExt cx="2730600" cy="2871720"/>
          </a:xfrm>
        </p:grpSpPr>
        <p:sp>
          <p:nvSpPr>
            <p:cNvPr id="332" name=""/>
            <p:cNvSpPr/>
            <p:nvPr/>
          </p:nvSpPr>
          <p:spPr>
            <a:xfrm>
              <a:off x="5397480" y="2013120"/>
              <a:ext cx="2730600" cy="2871720"/>
            </a:xfrm>
            <a:prstGeom prst="rect">
              <a:avLst/>
            </a:prstGeom>
            <a:solidFill>
              <a:srgbClr val="54b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" descr=""/>
            <p:cNvPicPr/>
            <p:nvPr/>
          </p:nvPicPr>
          <p:blipFill>
            <a:blip r:embed="rId2"/>
            <a:stretch/>
          </p:blipFill>
          <p:spPr>
            <a:xfrm>
              <a:off x="5398920" y="2013120"/>
              <a:ext cx="2729160" cy="28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5397480" y="2013120"/>
              <a:ext cx="2730600" cy="2871720"/>
            </a:xfrm>
            <a:prstGeom prst="rect">
              <a:avLst/>
            </a:prstGeom>
            <a:solidFill>
              <a:srgbClr val="54b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98920" y="2013120"/>
              <a:ext cx="2729160" cy="2869920"/>
            </a:xfrm>
            <a:prstGeom prst="rect">
              <a:avLst/>
            </a:prstGeom>
            <a:noFill/>
            <a:ln cap="rnd" w="31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455840" y="2960640"/>
            <a:ext cx="1027080" cy="558720"/>
            <a:chOff x="1455840" y="2960640"/>
            <a:chExt cx="1027080" cy="558720"/>
          </a:xfrm>
        </p:grpSpPr>
        <p:sp>
          <p:nvSpPr>
            <p:cNvPr id="337" name=""/>
            <p:cNvSpPr/>
            <p:nvPr/>
          </p:nvSpPr>
          <p:spPr>
            <a:xfrm>
              <a:off x="1455840" y="2960640"/>
              <a:ext cx="1027080" cy="558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55840" y="2960640"/>
              <a:ext cx="1027080" cy="55872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730880" y="3143160"/>
            <a:ext cx="48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454040" y="2068560"/>
            <a:ext cx="1028880" cy="582480"/>
            <a:chOff x="1454040" y="2068560"/>
            <a:chExt cx="1028880" cy="582480"/>
          </a:xfrm>
        </p:grpSpPr>
        <p:sp>
          <p:nvSpPr>
            <p:cNvPr id="341" name=""/>
            <p:cNvSpPr/>
            <p:nvPr/>
          </p:nvSpPr>
          <p:spPr>
            <a:xfrm>
              <a:off x="1454040" y="2068560"/>
              <a:ext cx="1028880" cy="582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54040" y="2068560"/>
              <a:ext cx="1028880" cy="58248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756800" y="226224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455840" y="3767040"/>
            <a:ext cx="1027080" cy="558720"/>
            <a:chOff x="1455840" y="3767040"/>
            <a:chExt cx="1027080" cy="558720"/>
          </a:xfrm>
        </p:grpSpPr>
        <p:sp>
          <p:nvSpPr>
            <p:cNvPr id="345" name=""/>
            <p:cNvSpPr/>
            <p:nvPr/>
          </p:nvSpPr>
          <p:spPr>
            <a:xfrm>
              <a:off x="1455840" y="3767040"/>
              <a:ext cx="1027080" cy="558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455840" y="3767040"/>
              <a:ext cx="1027080" cy="55872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530720" y="3949560"/>
            <a:ext cx="90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ircul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478240" y="3714840"/>
            <a:ext cx="1307880" cy="306360"/>
          </a:xfrm>
          <a:custGeom>
            <a:avLst/>
            <a:gdLst/>
            <a:ahLst/>
            <a:rect l="l" t="t" r="r" b="b"/>
            <a:pathLst>
              <a:path w="8436" h="1972">
                <a:moveTo>
                  <a:pt x="29" y="1903"/>
                </a:moveTo>
                <a:lnTo>
                  <a:pt x="8103" y="149"/>
                </a:lnTo>
                <a:cubicBezTo>
                  <a:pt x="8121" y="145"/>
                  <a:pt x="8139" y="156"/>
                  <a:pt x="8143" y="174"/>
                </a:cubicBezTo>
                <a:cubicBezTo>
                  <a:pt x="8147" y="192"/>
                  <a:pt x="8135" y="210"/>
                  <a:pt x="8117" y="214"/>
                </a:cubicBezTo>
                <a:lnTo>
                  <a:pt x="43" y="1968"/>
                </a:lnTo>
                <a:cubicBezTo>
                  <a:pt x="25" y="1972"/>
                  <a:pt x="7" y="1961"/>
                  <a:pt x="4" y="1943"/>
                </a:cubicBezTo>
                <a:cubicBezTo>
                  <a:pt x="0" y="1925"/>
                  <a:pt x="11" y="1907"/>
                  <a:pt x="29" y="1903"/>
                </a:cubicBezTo>
                <a:close/>
                <a:moveTo>
                  <a:pt x="8003" y="0"/>
                </a:moveTo>
                <a:lnTo>
                  <a:pt x="8436" y="110"/>
                </a:lnTo>
                <a:lnTo>
                  <a:pt x="8088" y="391"/>
                </a:lnTo>
                <a:lnTo>
                  <a:pt x="8003" y="0"/>
                </a:lnTo>
                <a:close/>
              </a:path>
            </a:pathLst>
          </a:custGeom>
          <a:solidFill>
            <a:srgbClr val="6600cc"/>
          </a:solidFill>
          <a:ln w="1440">
            <a:solidFill>
              <a:srgbClr val="6600c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478240" y="3265560"/>
            <a:ext cx="1307880" cy="365040"/>
          </a:xfrm>
          <a:custGeom>
            <a:avLst/>
            <a:gdLst/>
            <a:ahLst/>
            <a:rect l="l" t="t" r="r" b="b"/>
            <a:pathLst>
              <a:path w="8437" h="2360">
                <a:moveTo>
                  <a:pt x="46" y="4"/>
                </a:moveTo>
                <a:lnTo>
                  <a:pt x="8124" y="2152"/>
                </a:lnTo>
                <a:cubicBezTo>
                  <a:pt x="8141" y="2157"/>
                  <a:pt x="8152" y="2175"/>
                  <a:pt x="8147" y="2193"/>
                </a:cubicBezTo>
                <a:cubicBezTo>
                  <a:pt x="8142" y="2211"/>
                  <a:pt x="8124" y="2221"/>
                  <a:pt x="8106" y="2216"/>
                </a:cubicBezTo>
                <a:lnTo>
                  <a:pt x="29" y="69"/>
                </a:lnTo>
                <a:cubicBezTo>
                  <a:pt x="11" y="64"/>
                  <a:pt x="0" y="46"/>
                  <a:pt x="5" y="28"/>
                </a:cubicBezTo>
                <a:cubicBezTo>
                  <a:pt x="10" y="10"/>
                  <a:pt x="28" y="0"/>
                  <a:pt x="46" y="4"/>
                </a:cubicBezTo>
                <a:close/>
                <a:moveTo>
                  <a:pt x="8102" y="1974"/>
                </a:moveTo>
                <a:lnTo>
                  <a:pt x="8437" y="2270"/>
                </a:lnTo>
                <a:lnTo>
                  <a:pt x="7999" y="2360"/>
                </a:lnTo>
                <a:lnTo>
                  <a:pt x="8102" y="1974"/>
                </a:lnTo>
                <a:close/>
              </a:path>
            </a:pathLst>
          </a:custGeom>
          <a:solidFill>
            <a:srgbClr val="6600cc"/>
          </a:solidFill>
          <a:ln w="1440">
            <a:solidFill>
              <a:srgbClr val="6600c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478240" y="2335320"/>
            <a:ext cx="1307880" cy="1109520"/>
          </a:xfrm>
          <a:custGeom>
            <a:avLst/>
            <a:gdLst/>
            <a:ahLst/>
            <a:rect l="l" t="t" r="r" b="b"/>
            <a:pathLst>
              <a:path w="8437" h="7162">
                <a:moveTo>
                  <a:pt x="59" y="12"/>
                </a:moveTo>
                <a:lnTo>
                  <a:pt x="8205" y="6921"/>
                </a:lnTo>
                <a:cubicBezTo>
                  <a:pt x="8219" y="6933"/>
                  <a:pt x="8220" y="6954"/>
                  <a:pt x="8208" y="6968"/>
                </a:cubicBezTo>
                <a:cubicBezTo>
                  <a:pt x="8196" y="6982"/>
                  <a:pt x="8175" y="6984"/>
                  <a:pt x="8161" y="6972"/>
                </a:cubicBezTo>
                <a:lnTo>
                  <a:pt x="16" y="63"/>
                </a:lnTo>
                <a:cubicBezTo>
                  <a:pt x="2" y="51"/>
                  <a:pt x="0" y="30"/>
                  <a:pt x="12" y="16"/>
                </a:cubicBezTo>
                <a:cubicBezTo>
                  <a:pt x="24" y="2"/>
                  <a:pt x="45" y="0"/>
                  <a:pt x="59" y="12"/>
                </a:cubicBezTo>
                <a:close/>
                <a:moveTo>
                  <a:pt x="8261" y="6751"/>
                </a:moveTo>
                <a:lnTo>
                  <a:pt x="8437" y="7162"/>
                </a:lnTo>
                <a:lnTo>
                  <a:pt x="8003" y="7056"/>
                </a:lnTo>
                <a:lnTo>
                  <a:pt x="8261" y="6751"/>
                </a:lnTo>
                <a:close/>
              </a:path>
            </a:pathLst>
          </a:custGeom>
          <a:solidFill>
            <a:srgbClr val="6600cc"/>
          </a:solidFill>
          <a:ln w="1440">
            <a:solidFill>
              <a:srgbClr val="6600c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816360" y="2898720"/>
            <a:ext cx="1427040" cy="1054080"/>
            <a:chOff x="3816360" y="2898720"/>
            <a:chExt cx="1427040" cy="1054080"/>
          </a:xfrm>
        </p:grpSpPr>
        <p:sp>
          <p:nvSpPr>
            <p:cNvPr id="352" name=""/>
            <p:cNvSpPr/>
            <p:nvPr/>
          </p:nvSpPr>
          <p:spPr>
            <a:xfrm>
              <a:off x="3816360" y="2898720"/>
              <a:ext cx="1427040" cy="1054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16360" y="2898720"/>
              <a:ext cx="1427040" cy="105408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989520" y="2898720"/>
              <a:ext cx="0" cy="10540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70600" y="2898720"/>
              <a:ext cx="0" cy="10540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4235760" y="3324240"/>
            <a:ext cx="60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IME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584680" y="2819520"/>
            <a:ext cx="1054080" cy="1177920"/>
            <a:chOff x="5584680" y="2819520"/>
            <a:chExt cx="1054080" cy="1177920"/>
          </a:xfrm>
        </p:grpSpPr>
        <p:sp>
          <p:nvSpPr>
            <p:cNvPr id="358" name=""/>
            <p:cNvSpPr/>
            <p:nvPr/>
          </p:nvSpPr>
          <p:spPr>
            <a:xfrm>
              <a:off x="5584680" y="2819520"/>
              <a:ext cx="1054080" cy="1177920"/>
            </a:xfrm>
            <a:custGeom>
              <a:avLst/>
              <a:gdLst/>
              <a:ahLst/>
              <a:rect l="l" t="t" r="r" b="b"/>
              <a:pathLst>
                <a:path w="3400" h="3800">
                  <a:moveTo>
                    <a:pt x="1700" y="0"/>
                  </a:moveTo>
                  <a:cubicBezTo>
                    <a:pt x="761" y="0"/>
                    <a:pt x="0" y="267"/>
                    <a:pt x="0" y="597"/>
                  </a:cubicBezTo>
                  <a:lnTo>
                    <a:pt x="0" y="3204"/>
                  </a:lnTo>
                  <a:cubicBezTo>
                    <a:pt x="0" y="3533"/>
                    <a:pt x="761" y="3800"/>
                    <a:pt x="1700" y="3800"/>
                  </a:cubicBezTo>
                  <a:cubicBezTo>
                    <a:pt x="2639" y="3800"/>
                    <a:pt x="3400" y="3533"/>
                    <a:pt x="3400" y="3204"/>
                  </a:cubicBezTo>
                  <a:lnTo>
                    <a:pt x="3400" y="597"/>
                  </a:lnTo>
                  <a:cubicBezTo>
                    <a:pt x="3400" y="267"/>
                    <a:pt x="2639" y="0"/>
                    <a:pt x="1700" y="0"/>
                  </a:cubicBezTo>
                  <a:close/>
                </a:path>
              </a:pathLst>
            </a:custGeom>
            <a:solidFill>
              <a:srgbClr val="00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84680" y="2819520"/>
              <a:ext cx="1054080" cy="1177920"/>
            </a:xfrm>
            <a:custGeom>
              <a:avLst/>
              <a:gdLst/>
              <a:ahLst/>
              <a:rect l="l" t="t" r="r" b="b"/>
              <a:pathLst>
                <a:path w="3400" h="3800">
                  <a:moveTo>
                    <a:pt x="1700" y="0"/>
                  </a:moveTo>
                  <a:cubicBezTo>
                    <a:pt x="761" y="0"/>
                    <a:pt x="0" y="267"/>
                    <a:pt x="0" y="597"/>
                  </a:cubicBezTo>
                  <a:lnTo>
                    <a:pt x="0" y="3204"/>
                  </a:lnTo>
                  <a:cubicBezTo>
                    <a:pt x="0" y="3533"/>
                    <a:pt x="761" y="3800"/>
                    <a:pt x="1700" y="3800"/>
                  </a:cubicBezTo>
                  <a:cubicBezTo>
                    <a:pt x="2639" y="3800"/>
                    <a:pt x="3400" y="3533"/>
                    <a:pt x="3400" y="3204"/>
                  </a:cubicBezTo>
                  <a:lnTo>
                    <a:pt x="3400" y="597"/>
                  </a:lnTo>
                  <a:cubicBezTo>
                    <a:pt x="3400" y="267"/>
                    <a:pt x="2639" y="0"/>
                    <a:pt x="1700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584680" y="3003480"/>
              <a:ext cx="1054080" cy="185760"/>
            </a:xfrm>
            <a:custGeom>
              <a:avLst/>
              <a:gdLst/>
              <a:ahLst/>
              <a:rect l="l" t="t" r="r" b="b"/>
              <a:pathLst>
                <a:path w="664" h="117">
                  <a:moveTo>
                    <a:pt x="0" y="0"/>
                  </a:moveTo>
                  <a:cubicBezTo>
                    <a:pt x="0" y="64"/>
                    <a:pt x="149" y="117"/>
                    <a:pt x="332" y="117"/>
                  </a:cubicBezTo>
                  <a:cubicBezTo>
                    <a:pt x="515" y="117"/>
                    <a:pt x="664" y="64"/>
                    <a:pt x="664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5846760" y="328464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ven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713560" y="3508200"/>
            <a:ext cx="82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11720" y="3409920"/>
            <a:ext cx="372960" cy="93600"/>
          </a:xfrm>
          <a:custGeom>
            <a:avLst/>
            <a:gdLst/>
            <a:ahLst/>
            <a:rect l="l" t="t" r="r" b="b"/>
            <a:pathLst>
              <a:path w="235" h="59">
                <a:moveTo>
                  <a:pt x="186" y="39"/>
                </a:moveTo>
                <a:lnTo>
                  <a:pt x="49" y="39"/>
                </a:lnTo>
                <a:lnTo>
                  <a:pt x="49" y="20"/>
                </a:lnTo>
                <a:lnTo>
                  <a:pt x="186" y="20"/>
                </a:lnTo>
                <a:lnTo>
                  <a:pt x="186" y="39"/>
                </a:lnTo>
                <a:close/>
                <a:moveTo>
                  <a:pt x="176" y="0"/>
                </a:moveTo>
                <a:lnTo>
                  <a:pt x="235" y="30"/>
                </a:lnTo>
                <a:lnTo>
                  <a:pt x="176" y="59"/>
                </a:lnTo>
                <a:lnTo>
                  <a:pt x="176" y="0"/>
                </a:lnTo>
                <a:close/>
                <a:moveTo>
                  <a:pt x="59" y="59"/>
                </a:moveTo>
                <a:lnTo>
                  <a:pt x="0" y="30"/>
                </a:lnTo>
                <a:lnTo>
                  <a:pt x="59" y="0"/>
                </a:lnTo>
                <a:lnTo>
                  <a:pt x="59" y="59"/>
                </a:lnTo>
                <a:close/>
              </a:path>
            </a:pathLst>
          </a:custGeom>
          <a:solidFill>
            <a:srgbClr val="009999"/>
          </a:solidFill>
          <a:ln w="1440">
            <a:solidFill>
              <a:srgbClr val="0099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413160" y="2208240"/>
            <a:ext cx="2171520" cy="139680"/>
          </a:xfrm>
          <a:custGeom>
            <a:avLst/>
            <a:gdLst/>
            <a:ahLst/>
            <a:rect l="l" t="t" r="r" b="b"/>
            <a:pathLst>
              <a:path w="1368" h="88">
                <a:moveTo>
                  <a:pt x="1368" y="59"/>
                </a:moveTo>
                <a:lnTo>
                  <a:pt x="1338" y="59"/>
                </a:lnTo>
                <a:lnTo>
                  <a:pt x="1338" y="30"/>
                </a:lnTo>
                <a:lnTo>
                  <a:pt x="1368" y="30"/>
                </a:lnTo>
                <a:lnTo>
                  <a:pt x="1368" y="59"/>
                </a:lnTo>
                <a:close/>
                <a:moveTo>
                  <a:pt x="1309" y="59"/>
                </a:moveTo>
                <a:lnTo>
                  <a:pt x="1280" y="59"/>
                </a:lnTo>
                <a:lnTo>
                  <a:pt x="1280" y="30"/>
                </a:lnTo>
                <a:lnTo>
                  <a:pt x="1309" y="30"/>
                </a:lnTo>
                <a:lnTo>
                  <a:pt x="1309" y="59"/>
                </a:lnTo>
                <a:close/>
                <a:moveTo>
                  <a:pt x="1251" y="59"/>
                </a:moveTo>
                <a:lnTo>
                  <a:pt x="1221" y="59"/>
                </a:lnTo>
                <a:lnTo>
                  <a:pt x="1221" y="30"/>
                </a:lnTo>
                <a:lnTo>
                  <a:pt x="1251" y="30"/>
                </a:lnTo>
                <a:lnTo>
                  <a:pt x="1251" y="59"/>
                </a:lnTo>
                <a:close/>
                <a:moveTo>
                  <a:pt x="1192" y="59"/>
                </a:moveTo>
                <a:lnTo>
                  <a:pt x="1163" y="59"/>
                </a:lnTo>
                <a:lnTo>
                  <a:pt x="1163" y="30"/>
                </a:lnTo>
                <a:lnTo>
                  <a:pt x="1192" y="30"/>
                </a:lnTo>
                <a:lnTo>
                  <a:pt x="1192" y="59"/>
                </a:lnTo>
                <a:close/>
                <a:moveTo>
                  <a:pt x="1133" y="59"/>
                </a:moveTo>
                <a:lnTo>
                  <a:pt x="1104" y="59"/>
                </a:lnTo>
                <a:lnTo>
                  <a:pt x="1104" y="30"/>
                </a:lnTo>
                <a:lnTo>
                  <a:pt x="1133" y="30"/>
                </a:lnTo>
                <a:lnTo>
                  <a:pt x="1133" y="59"/>
                </a:lnTo>
                <a:close/>
                <a:moveTo>
                  <a:pt x="1075" y="59"/>
                </a:moveTo>
                <a:lnTo>
                  <a:pt x="1045" y="59"/>
                </a:lnTo>
                <a:lnTo>
                  <a:pt x="1045" y="30"/>
                </a:lnTo>
                <a:lnTo>
                  <a:pt x="1075" y="30"/>
                </a:lnTo>
                <a:lnTo>
                  <a:pt x="1075" y="59"/>
                </a:lnTo>
                <a:close/>
                <a:moveTo>
                  <a:pt x="1016" y="59"/>
                </a:moveTo>
                <a:lnTo>
                  <a:pt x="987" y="59"/>
                </a:lnTo>
                <a:lnTo>
                  <a:pt x="987" y="30"/>
                </a:lnTo>
                <a:lnTo>
                  <a:pt x="1016" y="30"/>
                </a:lnTo>
                <a:lnTo>
                  <a:pt x="1016" y="59"/>
                </a:lnTo>
                <a:close/>
                <a:moveTo>
                  <a:pt x="958" y="59"/>
                </a:moveTo>
                <a:lnTo>
                  <a:pt x="928" y="59"/>
                </a:lnTo>
                <a:lnTo>
                  <a:pt x="928" y="30"/>
                </a:lnTo>
                <a:lnTo>
                  <a:pt x="958" y="30"/>
                </a:lnTo>
                <a:lnTo>
                  <a:pt x="958" y="59"/>
                </a:lnTo>
                <a:close/>
                <a:moveTo>
                  <a:pt x="899" y="59"/>
                </a:moveTo>
                <a:lnTo>
                  <a:pt x="870" y="59"/>
                </a:lnTo>
                <a:lnTo>
                  <a:pt x="870" y="30"/>
                </a:lnTo>
                <a:lnTo>
                  <a:pt x="899" y="30"/>
                </a:lnTo>
                <a:lnTo>
                  <a:pt x="899" y="59"/>
                </a:lnTo>
                <a:close/>
                <a:moveTo>
                  <a:pt x="840" y="59"/>
                </a:moveTo>
                <a:lnTo>
                  <a:pt x="811" y="59"/>
                </a:lnTo>
                <a:lnTo>
                  <a:pt x="811" y="30"/>
                </a:lnTo>
                <a:lnTo>
                  <a:pt x="840" y="30"/>
                </a:lnTo>
                <a:lnTo>
                  <a:pt x="840" y="59"/>
                </a:lnTo>
                <a:close/>
                <a:moveTo>
                  <a:pt x="782" y="59"/>
                </a:moveTo>
                <a:lnTo>
                  <a:pt x="752" y="59"/>
                </a:lnTo>
                <a:lnTo>
                  <a:pt x="752" y="30"/>
                </a:lnTo>
                <a:lnTo>
                  <a:pt x="782" y="30"/>
                </a:lnTo>
                <a:lnTo>
                  <a:pt x="782" y="59"/>
                </a:lnTo>
                <a:close/>
                <a:moveTo>
                  <a:pt x="723" y="59"/>
                </a:moveTo>
                <a:lnTo>
                  <a:pt x="694" y="59"/>
                </a:lnTo>
                <a:lnTo>
                  <a:pt x="694" y="30"/>
                </a:lnTo>
                <a:lnTo>
                  <a:pt x="723" y="30"/>
                </a:lnTo>
                <a:lnTo>
                  <a:pt x="723" y="59"/>
                </a:lnTo>
                <a:close/>
                <a:moveTo>
                  <a:pt x="664" y="59"/>
                </a:moveTo>
                <a:lnTo>
                  <a:pt x="635" y="59"/>
                </a:lnTo>
                <a:lnTo>
                  <a:pt x="635" y="30"/>
                </a:lnTo>
                <a:lnTo>
                  <a:pt x="664" y="30"/>
                </a:lnTo>
                <a:lnTo>
                  <a:pt x="664" y="59"/>
                </a:lnTo>
                <a:close/>
                <a:moveTo>
                  <a:pt x="606" y="59"/>
                </a:moveTo>
                <a:lnTo>
                  <a:pt x="577" y="59"/>
                </a:lnTo>
                <a:lnTo>
                  <a:pt x="577" y="30"/>
                </a:lnTo>
                <a:lnTo>
                  <a:pt x="606" y="30"/>
                </a:lnTo>
                <a:lnTo>
                  <a:pt x="606" y="59"/>
                </a:lnTo>
                <a:close/>
                <a:moveTo>
                  <a:pt x="547" y="59"/>
                </a:moveTo>
                <a:lnTo>
                  <a:pt x="518" y="59"/>
                </a:lnTo>
                <a:lnTo>
                  <a:pt x="518" y="30"/>
                </a:lnTo>
                <a:lnTo>
                  <a:pt x="547" y="30"/>
                </a:lnTo>
                <a:lnTo>
                  <a:pt x="547" y="59"/>
                </a:lnTo>
                <a:close/>
                <a:moveTo>
                  <a:pt x="489" y="59"/>
                </a:moveTo>
                <a:lnTo>
                  <a:pt x="459" y="59"/>
                </a:lnTo>
                <a:lnTo>
                  <a:pt x="459" y="30"/>
                </a:lnTo>
                <a:lnTo>
                  <a:pt x="489" y="30"/>
                </a:lnTo>
                <a:lnTo>
                  <a:pt x="489" y="59"/>
                </a:lnTo>
                <a:close/>
                <a:moveTo>
                  <a:pt x="430" y="59"/>
                </a:moveTo>
                <a:lnTo>
                  <a:pt x="401" y="59"/>
                </a:lnTo>
                <a:lnTo>
                  <a:pt x="401" y="30"/>
                </a:lnTo>
                <a:lnTo>
                  <a:pt x="430" y="30"/>
                </a:lnTo>
                <a:lnTo>
                  <a:pt x="430" y="59"/>
                </a:lnTo>
                <a:close/>
                <a:moveTo>
                  <a:pt x="371" y="59"/>
                </a:moveTo>
                <a:lnTo>
                  <a:pt x="342" y="59"/>
                </a:lnTo>
                <a:lnTo>
                  <a:pt x="342" y="30"/>
                </a:lnTo>
                <a:lnTo>
                  <a:pt x="371" y="30"/>
                </a:lnTo>
                <a:lnTo>
                  <a:pt x="371" y="59"/>
                </a:lnTo>
                <a:close/>
                <a:moveTo>
                  <a:pt x="313" y="59"/>
                </a:moveTo>
                <a:lnTo>
                  <a:pt x="284" y="59"/>
                </a:lnTo>
                <a:lnTo>
                  <a:pt x="284" y="30"/>
                </a:lnTo>
                <a:lnTo>
                  <a:pt x="313" y="30"/>
                </a:lnTo>
                <a:lnTo>
                  <a:pt x="313" y="59"/>
                </a:lnTo>
                <a:close/>
                <a:moveTo>
                  <a:pt x="254" y="59"/>
                </a:moveTo>
                <a:lnTo>
                  <a:pt x="225" y="59"/>
                </a:lnTo>
                <a:lnTo>
                  <a:pt x="225" y="30"/>
                </a:lnTo>
                <a:lnTo>
                  <a:pt x="254" y="30"/>
                </a:lnTo>
                <a:lnTo>
                  <a:pt x="254" y="59"/>
                </a:lnTo>
                <a:close/>
                <a:moveTo>
                  <a:pt x="196" y="59"/>
                </a:moveTo>
                <a:lnTo>
                  <a:pt x="166" y="59"/>
                </a:lnTo>
                <a:lnTo>
                  <a:pt x="166" y="30"/>
                </a:lnTo>
                <a:lnTo>
                  <a:pt x="196" y="30"/>
                </a:lnTo>
                <a:lnTo>
                  <a:pt x="196" y="59"/>
                </a:lnTo>
                <a:close/>
                <a:moveTo>
                  <a:pt x="137" y="59"/>
                </a:moveTo>
                <a:lnTo>
                  <a:pt x="108" y="59"/>
                </a:lnTo>
                <a:lnTo>
                  <a:pt x="108" y="30"/>
                </a:lnTo>
                <a:lnTo>
                  <a:pt x="137" y="30"/>
                </a:lnTo>
                <a:lnTo>
                  <a:pt x="137" y="59"/>
                </a:lnTo>
                <a:close/>
                <a:moveTo>
                  <a:pt x="78" y="59"/>
                </a:moveTo>
                <a:lnTo>
                  <a:pt x="74" y="59"/>
                </a:lnTo>
                <a:lnTo>
                  <a:pt x="74" y="30"/>
                </a:lnTo>
                <a:lnTo>
                  <a:pt x="78" y="30"/>
                </a:lnTo>
                <a:lnTo>
                  <a:pt x="78" y="59"/>
                </a:lnTo>
                <a:close/>
                <a:moveTo>
                  <a:pt x="88" y="88"/>
                </a:moveTo>
                <a:lnTo>
                  <a:pt x="0" y="44"/>
                </a:lnTo>
                <a:lnTo>
                  <a:pt x="88" y="0"/>
                </a:lnTo>
                <a:lnTo>
                  <a:pt x="88" y="88"/>
                </a:lnTo>
                <a:close/>
              </a:path>
            </a:pathLst>
          </a:custGeom>
          <a:solidFill>
            <a:srgbClr val="777777"/>
          </a:solidFill>
          <a:ln w="1440">
            <a:solidFill>
              <a:srgbClr val="77777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751760" y="1704960"/>
            <a:ext cx="657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00ff"/>
                </a:solidFill>
                <a:latin typeface="Arial"/>
              </a:rPr>
              <a:t>Mode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087960" y="1704960"/>
            <a:ext cx="1221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99"/>
                </a:solidFill>
                <a:latin typeface="Arial"/>
              </a:rPr>
              <a:t>Observ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437000" y="3957480"/>
            <a:ext cx="185760" cy="987480"/>
          </a:xfrm>
          <a:custGeom>
            <a:avLst/>
            <a:gdLst/>
            <a:ahLst/>
            <a:rect l="l" t="t" r="r" b="b"/>
            <a:pathLst>
              <a:path w="117" h="622">
                <a:moveTo>
                  <a:pt x="78" y="0"/>
                </a:moveTo>
                <a:lnTo>
                  <a:pt x="78" y="525"/>
                </a:lnTo>
                <a:lnTo>
                  <a:pt x="39" y="525"/>
                </a:lnTo>
                <a:lnTo>
                  <a:pt x="39" y="0"/>
                </a:lnTo>
                <a:lnTo>
                  <a:pt x="78" y="0"/>
                </a:lnTo>
                <a:close/>
                <a:moveTo>
                  <a:pt x="117" y="505"/>
                </a:moveTo>
                <a:lnTo>
                  <a:pt x="59" y="622"/>
                </a:lnTo>
                <a:lnTo>
                  <a:pt x="0" y="505"/>
                </a:lnTo>
                <a:lnTo>
                  <a:pt x="117" y="505"/>
                </a:lnTo>
                <a:close/>
              </a:path>
            </a:pathLst>
          </a:custGeom>
          <a:solidFill>
            <a:srgbClr val="3333cc"/>
          </a:solidFill>
          <a:ln w="1440">
            <a:solidFill>
              <a:srgbClr val="3333c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75080" y="4944960"/>
            <a:ext cx="223524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475080" y="4944960"/>
            <a:ext cx="2233440" cy="13654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475080" y="4944960"/>
            <a:ext cx="223524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475080" y="4952880"/>
            <a:ext cx="2233440" cy="1365480"/>
          </a:xfrm>
          <a:prstGeom prst="ellipse">
            <a:avLst/>
          </a:prstGeom>
          <a:solidFill>
            <a:srgbClr val="ffff00"/>
          </a:solidFill>
          <a:ln cap="rnd"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042800" y="5045040"/>
            <a:ext cx="1203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rror metrics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972240" y="5268960"/>
            <a:ext cx="135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agnostic plo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096800" y="5716440"/>
            <a:ext cx="1096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30840" y="5938920"/>
            <a:ext cx="143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ables &amp; Graph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852480" y="1967040"/>
            <a:ext cx="2498760" cy="2528640"/>
            <a:chOff x="852480" y="1967040"/>
            <a:chExt cx="2498760" cy="2528640"/>
          </a:xfrm>
        </p:grpSpPr>
        <p:sp>
          <p:nvSpPr>
            <p:cNvPr id="377" name=""/>
            <p:cNvSpPr/>
            <p:nvPr/>
          </p:nvSpPr>
          <p:spPr>
            <a:xfrm>
              <a:off x="852480" y="1967040"/>
              <a:ext cx="2498760" cy="2528640"/>
            </a:xfrm>
            <a:prstGeom prst="rect">
              <a:avLst/>
            </a:prstGeom>
            <a:solidFill>
              <a:srgbClr val="a82b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" name="" descr=""/>
            <p:cNvPicPr/>
            <p:nvPr/>
          </p:nvPicPr>
          <p:blipFill>
            <a:blip r:embed="rId3"/>
            <a:stretch/>
          </p:blipFill>
          <p:spPr>
            <a:xfrm>
              <a:off x="852480" y="1967760"/>
              <a:ext cx="2498760" cy="25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852480" y="1967040"/>
              <a:ext cx="2498760" cy="2528640"/>
            </a:xfrm>
            <a:prstGeom prst="rect">
              <a:avLst/>
            </a:prstGeom>
            <a:solidFill>
              <a:srgbClr val="a82b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52480" y="1967760"/>
              <a:ext cx="2498760" cy="2527560"/>
            </a:xfrm>
            <a:prstGeom prst="rect">
              <a:avLst/>
            </a:prstGeom>
            <a:noFill/>
            <a:ln cap="rnd" w="3168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783480" y="4014720"/>
            <a:ext cx="1344600" cy="825480"/>
            <a:chOff x="6783480" y="4014720"/>
            <a:chExt cx="1344600" cy="825480"/>
          </a:xfrm>
        </p:grpSpPr>
        <p:sp>
          <p:nvSpPr>
            <p:cNvPr id="382" name=""/>
            <p:cNvSpPr/>
            <p:nvPr/>
          </p:nvSpPr>
          <p:spPr>
            <a:xfrm>
              <a:off x="6783480" y="4014720"/>
              <a:ext cx="1116000" cy="576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4"/>
            <a:stretch/>
          </p:blipFill>
          <p:spPr>
            <a:xfrm>
              <a:off x="6783480" y="4014720"/>
              <a:ext cx="111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6783480" y="4014720"/>
              <a:ext cx="1116000" cy="576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896160" y="4138560"/>
              <a:ext cx="1117440" cy="576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6" name="" descr=""/>
            <p:cNvPicPr/>
            <p:nvPr/>
          </p:nvPicPr>
          <p:blipFill>
            <a:blip r:embed="rId5"/>
            <a:stretch/>
          </p:blipFill>
          <p:spPr>
            <a:xfrm>
              <a:off x="6897600" y="4138560"/>
              <a:ext cx="1116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6896160" y="4138560"/>
              <a:ext cx="1117440" cy="576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012080" y="4264200"/>
              <a:ext cx="1116000" cy="576000"/>
            </a:xfrm>
            <a:prstGeom prst="rect">
              <a:avLst/>
            </a:prstGeom>
            <a:solidFill>
              <a:srgbClr val="5e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012080" y="4264200"/>
              <a:ext cx="1116000" cy="57600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7138800" y="4343400"/>
            <a:ext cx="884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urrican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274520" y="4567320"/>
            <a:ext cx="60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Katri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783480" y="3005280"/>
            <a:ext cx="1344600" cy="823680"/>
            <a:chOff x="6783480" y="3005280"/>
            <a:chExt cx="1344600" cy="823680"/>
          </a:xfrm>
        </p:grpSpPr>
        <p:sp>
          <p:nvSpPr>
            <p:cNvPr id="393" name=""/>
            <p:cNvSpPr/>
            <p:nvPr/>
          </p:nvSpPr>
          <p:spPr>
            <a:xfrm>
              <a:off x="6783480" y="3005280"/>
              <a:ext cx="1116000" cy="576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4" name="" descr=""/>
            <p:cNvPicPr/>
            <p:nvPr/>
          </p:nvPicPr>
          <p:blipFill>
            <a:blip r:embed="rId6"/>
            <a:stretch/>
          </p:blipFill>
          <p:spPr>
            <a:xfrm>
              <a:off x="6783480" y="3005280"/>
              <a:ext cx="111600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6783480" y="3005280"/>
              <a:ext cx="1116000" cy="576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896160" y="3129120"/>
              <a:ext cx="1117440" cy="57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7" name="" descr=""/>
            <p:cNvPicPr/>
            <p:nvPr/>
          </p:nvPicPr>
          <p:blipFill>
            <a:blip r:embed="rId7"/>
            <a:stretch/>
          </p:blipFill>
          <p:spPr>
            <a:xfrm>
              <a:off x="6897600" y="3129120"/>
              <a:ext cx="111600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6896160" y="3129120"/>
              <a:ext cx="1117440" cy="57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12080" y="3252960"/>
              <a:ext cx="1116000" cy="576000"/>
            </a:xfrm>
            <a:prstGeom prst="rect">
              <a:avLst/>
            </a:prstGeom>
            <a:solidFill>
              <a:srgbClr val="5e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012080" y="3252960"/>
              <a:ext cx="1116000" cy="57600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7019280" y="3333600"/>
            <a:ext cx="113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anksgiv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20960" y="3556080"/>
            <a:ext cx="50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or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783480" y="2030400"/>
            <a:ext cx="1344600" cy="824040"/>
            <a:chOff x="6783480" y="2030400"/>
            <a:chExt cx="1344600" cy="824040"/>
          </a:xfrm>
        </p:grpSpPr>
        <p:sp>
          <p:nvSpPr>
            <p:cNvPr id="404" name=""/>
            <p:cNvSpPr/>
            <p:nvPr/>
          </p:nvSpPr>
          <p:spPr>
            <a:xfrm>
              <a:off x="6783480" y="2030400"/>
              <a:ext cx="1116000" cy="576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8"/>
            <a:stretch/>
          </p:blipFill>
          <p:spPr>
            <a:xfrm>
              <a:off x="6783480" y="2030400"/>
              <a:ext cx="111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6783480" y="2030400"/>
              <a:ext cx="1116000" cy="576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896160" y="2154240"/>
              <a:ext cx="1117440" cy="576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8" name="" descr=""/>
            <p:cNvPicPr/>
            <p:nvPr/>
          </p:nvPicPr>
          <p:blipFill>
            <a:blip r:embed="rId9"/>
            <a:stretch/>
          </p:blipFill>
          <p:spPr>
            <a:xfrm>
              <a:off x="6897600" y="2154240"/>
              <a:ext cx="111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6896160" y="2154240"/>
              <a:ext cx="1117440" cy="576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012080" y="2278080"/>
              <a:ext cx="1116000" cy="576360"/>
            </a:xfrm>
            <a:prstGeom prst="rect">
              <a:avLst/>
            </a:prstGeom>
            <a:solidFill>
              <a:srgbClr val="5e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12080" y="2278080"/>
              <a:ext cx="1116000" cy="57636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7138800" y="2357280"/>
            <a:ext cx="884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urrican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320240" y="2583000"/>
            <a:ext cx="51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sab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638760" y="2575080"/>
            <a:ext cx="378000" cy="633240"/>
          </a:xfrm>
          <a:custGeom>
            <a:avLst/>
            <a:gdLst/>
            <a:ahLst/>
            <a:rect l="l" t="t" r="r" b="b"/>
            <a:pathLst>
              <a:path w="1219" h="2044">
                <a:moveTo>
                  <a:pt x="1214" y="28"/>
                </a:moveTo>
                <a:lnTo>
                  <a:pt x="99" y="1910"/>
                </a:lnTo>
                <a:cubicBezTo>
                  <a:pt x="94" y="1918"/>
                  <a:pt x="84" y="1920"/>
                  <a:pt x="76" y="1915"/>
                </a:cubicBezTo>
                <a:cubicBezTo>
                  <a:pt x="68" y="1911"/>
                  <a:pt x="66" y="1901"/>
                  <a:pt x="70" y="1893"/>
                </a:cubicBezTo>
                <a:lnTo>
                  <a:pt x="1185" y="11"/>
                </a:lnTo>
                <a:cubicBezTo>
                  <a:pt x="1190" y="3"/>
                  <a:pt x="1200" y="0"/>
                  <a:pt x="1208" y="5"/>
                </a:cubicBezTo>
                <a:cubicBezTo>
                  <a:pt x="1216" y="10"/>
                  <a:pt x="1219" y="20"/>
                  <a:pt x="1214" y="28"/>
                </a:cubicBezTo>
                <a:close/>
                <a:moveTo>
                  <a:pt x="188" y="1923"/>
                </a:moveTo>
                <a:lnTo>
                  <a:pt x="0" y="2044"/>
                </a:lnTo>
                <a:lnTo>
                  <a:pt x="16" y="1821"/>
                </a:lnTo>
                <a:lnTo>
                  <a:pt x="188" y="1923"/>
                </a:lnTo>
                <a:close/>
              </a:path>
            </a:pathLst>
          </a:custGeom>
          <a:solidFill>
            <a:srgbClr val="009999"/>
          </a:solidFill>
          <a:ln w="1440">
            <a:solidFill>
              <a:srgbClr val="0099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638760" y="3451320"/>
            <a:ext cx="378000" cy="88920"/>
          </a:xfrm>
          <a:custGeom>
            <a:avLst/>
            <a:gdLst/>
            <a:ahLst/>
            <a:rect l="l" t="t" r="r" b="b"/>
            <a:pathLst>
              <a:path w="1218" h="283">
                <a:moveTo>
                  <a:pt x="1203" y="34"/>
                </a:moveTo>
                <a:lnTo>
                  <a:pt x="167" y="207"/>
                </a:lnTo>
                <a:cubicBezTo>
                  <a:pt x="158" y="208"/>
                  <a:pt x="149" y="202"/>
                  <a:pt x="148" y="193"/>
                </a:cubicBezTo>
                <a:cubicBezTo>
                  <a:pt x="146" y="184"/>
                  <a:pt x="152" y="175"/>
                  <a:pt x="161" y="174"/>
                </a:cubicBezTo>
                <a:lnTo>
                  <a:pt x="1197" y="1"/>
                </a:lnTo>
                <a:cubicBezTo>
                  <a:pt x="1206" y="0"/>
                  <a:pt x="1215" y="6"/>
                  <a:pt x="1216" y="15"/>
                </a:cubicBezTo>
                <a:cubicBezTo>
                  <a:pt x="1218" y="24"/>
                  <a:pt x="1212" y="32"/>
                  <a:pt x="1203" y="34"/>
                </a:cubicBezTo>
                <a:close/>
                <a:moveTo>
                  <a:pt x="214" y="283"/>
                </a:moveTo>
                <a:lnTo>
                  <a:pt x="0" y="217"/>
                </a:lnTo>
                <a:lnTo>
                  <a:pt x="181" y="86"/>
                </a:lnTo>
                <a:lnTo>
                  <a:pt x="214" y="283"/>
                </a:lnTo>
                <a:close/>
              </a:path>
            </a:pathLst>
          </a:custGeom>
          <a:solidFill>
            <a:srgbClr val="009999"/>
          </a:solidFill>
          <a:ln w="1440">
            <a:solidFill>
              <a:srgbClr val="0099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38760" y="3890880"/>
            <a:ext cx="378000" cy="530280"/>
          </a:xfrm>
          <a:custGeom>
            <a:avLst/>
            <a:gdLst/>
            <a:ahLst/>
            <a:rect l="l" t="t" r="r" b="b"/>
            <a:pathLst>
              <a:path w="1219" h="1707">
                <a:moveTo>
                  <a:pt x="1186" y="1698"/>
                </a:moveTo>
                <a:lnTo>
                  <a:pt x="83" y="146"/>
                </a:lnTo>
                <a:cubicBezTo>
                  <a:pt x="77" y="138"/>
                  <a:pt x="79" y="128"/>
                  <a:pt x="87" y="123"/>
                </a:cubicBezTo>
                <a:cubicBezTo>
                  <a:pt x="94" y="117"/>
                  <a:pt x="105" y="119"/>
                  <a:pt x="110" y="127"/>
                </a:cubicBezTo>
                <a:lnTo>
                  <a:pt x="1213" y="1678"/>
                </a:lnTo>
                <a:cubicBezTo>
                  <a:pt x="1219" y="1686"/>
                  <a:pt x="1217" y="1696"/>
                  <a:pt x="1209" y="1702"/>
                </a:cubicBezTo>
                <a:cubicBezTo>
                  <a:pt x="1202" y="1707"/>
                  <a:pt x="1192" y="1705"/>
                  <a:pt x="1186" y="1698"/>
                </a:cubicBezTo>
                <a:close/>
                <a:moveTo>
                  <a:pt x="34" y="221"/>
                </a:moveTo>
                <a:lnTo>
                  <a:pt x="0" y="0"/>
                </a:lnTo>
                <a:lnTo>
                  <a:pt x="197" y="106"/>
                </a:lnTo>
                <a:lnTo>
                  <a:pt x="34" y="221"/>
                </a:lnTo>
                <a:close/>
              </a:path>
            </a:pathLst>
          </a:custGeom>
          <a:solidFill>
            <a:srgbClr val="009999"/>
          </a:solidFill>
          <a:ln w="1440">
            <a:solidFill>
              <a:srgbClr val="0099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97480" y="2013120"/>
            <a:ext cx="2730600" cy="2871720"/>
            <a:chOff x="5397480" y="2013120"/>
            <a:chExt cx="2730600" cy="2871720"/>
          </a:xfrm>
        </p:grpSpPr>
        <p:sp>
          <p:nvSpPr>
            <p:cNvPr id="418" name=""/>
            <p:cNvSpPr/>
            <p:nvPr/>
          </p:nvSpPr>
          <p:spPr>
            <a:xfrm>
              <a:off x="5397480" y="2013120"/>
              <a:ext cx="2730600" cy="2871720"/>
            </a:xfrm>
            <a:prstGeom prst="rect">
              <a:avLst/>
            </a:prstGeom>
            <a:solidFill>
              <a:srgbClr val="54b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9" name="" descr=""/>
            <p:cNvPicPr/>
            <p:nvPr/>
          </p:nvPicPr>
          <p:blipFill>
            <a:blip r:embed="rId10"/>
            <a:stretch/>
          </p:blipFill>
          <p:spPr>
            <a:xfrm>
              <a:off x="5398920" y="2013120"/>
              <a:ext cx="2729160" cy="28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5397480" y="2013120"/>
              <a:ext cx="2730600" cy="2871720"/>
            </a:xfrm>
            <a:prstGeom prst="rect">
              <a:avLst/>
            </a:prstGeom>
            <a:solidFill>
              <a:srgbClr val="54b1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98920" y="2013120"/>
              <a:ext cx="2729160" cy="2869920"/>
            </a:xfrm>
            <a:prstGeom prst="rect">
              <a:avLst/>
            </a:prstGeom>
            <a:noFill/>
            <a:ln cap="rnd" w="31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1455840" y="2960640"/>
            <a:ext cx="1027080" cy="558720"/>
            <a:chOff x="1455840" y="2960640"/>
            <a:chExt cx="1027080" cy="558720"/>
          </a:xfrm>
        </p:grpSpPr>
        <p:sp>
          <p:nvSpPr>
            <p:cNvPr id="423" name=""/>
            <p:cNvSpPr/>
            <p:nvPr/>
          </p:nvSpPr>
          <p:spPr>
            <a:xfrm>
              <a:off x="1455840" y="2960640"/>
              <a:ext cx="1027080" cy="5587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55840" y="2960640"/>
              <a:ext cx="1027080" cy="55872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1730880" y="3143160"/>
            <a:ext cx="48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454040" y="2068560"/>
            <a:ext cx="1028880" cy="582480"/>
            <a:chOff x="1454040" y="2068560"/>
            <a:chExt cx="1028880" cy="582480"/>
          </a:xfrm>
        </p:grpSpPr>
        <p:sp>
          <p:nvSpPr>
            <p:cNvPr id="427" name=""/>
            <p:cNvSpPr/>
            <p:nvPr/>
          </p:nvSpPr>
          <p:spPr>
            <a:xfrm>
              <a:off x="1454040" y="2068560"/>
              <a:ext cx="1028880" cy="582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54040" y="2068560"/>
              <a:ext cx="1028880" cy="58248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1756800" y="226224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478240" y="3714840"/>
            <a:ext cx="1307880" cy="306360"/>
          </a:xfrm>
          <a:custGeom>
            <a:avLst/>
            <a:gdLst/>
            <a:ahLst/>
            <a:rect l="l" t="t" r="r" b="b"/>
            <a:pathLst>
              <a:path w="8436" h="1972">
                <a:moveTo>
                  <a:pt x="29" y="1903"/>
                </a:moveTo>
                <a:lnTo>
                  <a:pt x="8103" y="149"/>
                </a:lnTo>
                <a:cubicBezTo>
                  <a:pt x="8121" y="145"/>
                  <a:pt x="8139" y="156"/>
                  <a:pt x="8143" y="174"/>
                </a:cubicBezTo>
                <a:cubicBezTo>
                  <a:pt x="8147" y="192"/>
                  <a:pt x="8135" y="210"/>
                  <a:pt x="8117" y="214"/>
                </a:cubicBezTo>
                <a:lnTo>
                  <a:pt x="43" y="1968"/>
                </a:lnTo>
                <a:cubicBezTo>
                  <a:pt x="25" y="1972"/>
                  <a:pt x="7" y="1961"/>
                  <a:pt x="4" y="1943"/>
                </a:cubicBezTo>
                <a:cubicBezTo>
                  <a:pt x="0" y="1925"/>
                  <a:pt x="11" y="1907"/>
                  <a:pt x="29" y="1903"/>
                </a:cubicBezTo>
                <a:close/>
                <a:moveTo>
                  <a:pt x="8003" y="0"/>
                </a:moveTo>
                <a:lnTo>
                  <a:pt x="8436" y="110"/>
                </a:lnTo>
                <a:lnTo>
                  <a:pt x="8088" y="391"/>
                </a:lnTo>
                <a:lnTo>
                  <a:pt x="8003" y="0"/>
                </a:lnTo>
                <a:close/>
              </a:path>
            </a:pathLst>
          </a:custGeom>
          <a:solidFill>
            <a:srgbClr val="6600cc"/>
          </a:solidFill>
          <a:ln w="1440">
            <a:solidFill>
              <a:srgbClr val="6600c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478240" y="3265560"/>
            <a:ext cx="1307880" cy="365040"/>
          </a:xfrm>
          <a:custGeom>
            <a:avLst/>
            <a:gdLst/>
            <a:ahLst/>
            <a:rect l="l" t="t" r="r" b="b"/>
            <a:pathLst>
              <a:path w="8437" h="2360">
                <a:moveTo>
                  <a:pt x="46" y="4"/>
                </a:moveTo>
                <a:lnTo>
                  <a:pt x="8124" y="2152"/>
                </a:lnTo>
                <a:cubicBezTo>
                  <a:pt x="8141" y="2157"/>
                  <a:pt x="8152" y="2175"/>
                  <a:pt x="8147" y="2193"/>
                </a:cubicBezTo>
                <a:cubicBezTo>
                  <a:pt x="8142" y="2211"/>
                  <a:pt x="8124" y="2221"/>
                  <a:pt x="8106" y="2216"/>
                </a:cubicBezTo>
                <a:lnTo>
                  <a:pt x="29" y="69"/>
                </a:lnTo>
                <a:cubicBezTo>
                  <a:pt x="11" y="64"/>
                  <a:pt x="0" y="46"/>
                  <a:pt x="5" y="28"/>
                </a:cubicBezTo>
                <a:cubicBezTo>
                  <a:pt x="10" y="10"/>
                  <a:pt x="28" y="0"/>
                  <a:pt x="46" y="4"/>
                </a:cubicBezTo>
                <a:close/>
                <a:moveTo>
                  <a:pt x="8102" y="1974"/>
                </a:moveTo>
                <a:lnTo>
                  <a:pt x="8437" y="2270"/>
                </a:lnTo>
                <a:lnTo>
                  <a:pt x="7999" y="2360"/>
                </a:lnTo>
                <a:lnTo>
                  <a:pt x="8102" y="1974"/>
                </a:lnTo>
                <a:close/>
              </a:path>
            </a:pathLst>
          </a:custGeom>
          <a:solidFill>
            <a:srgbClr val="6600cc"/>
          </a:solidFill>
          <a:ln w="1440">
            <a:solidFill>
              <a:srgbClr val="6600c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478240" y="2335320"/>
            <a:ext cx="1307880" cy="1109520"/>
          </a:xfrm>
          <a:custGeom>
            <a:avLst/>
            <a:gdLst/>
            <a:ahLst/>
            <a:rect l="l" t="t" r="r" b="b"/>
            <a:pathLst>
              <a:path w="8437" h="7162">
                <a:moveTo>
                  <a:pt x="59" y="12"/>
                </a:moveTo>
                <a:lnTo>
                  <a:pt x="8205" y="6921"/>
                </a:lnTo>
                <a:cubicBezTo>
                  <a:pt x="8219" y="6933"/>
                  <a:pt x="8220" y="6954"/>
                  <a:pt x="8208" y="6968"/>
                </a:cubicBezTo>
                <a:cubicBezTo>
                  <a:pt x="8196" y="6982"/>
                  <a:pt x="8175" y="6984"/>
                  <a:pt x="8161" y="6972"/>
                </a:cubicBezTo>
                <a:lnTo>
                  <a:pt x="16" y="63"/>
                </a:lnTo>
                <a:cubicBezTo>
                  <a:pt x="2" y="51"/>
                  <a:pt x="0" y="30"/>
                  <a:pt x="12" y="16"/>
                </a:cubicBezTo>
                <a:cubicBezTo>
                  <a:pt x="24" y="2"/>
                  <a:pt x="45" y="0"/>
                  <a:pt x="59" y="12"/>
                </a:cubicBezTo>
                <a:close/>
                <a:moveTo>
                  <a:pt x="8261" y="6751"/>
                </a:moveTo>
                <a:lnTo>
                  <a:pt x="8437" y="7162"/>
                </a:lnTo>
                <a:lnTo>
                  <a:pt x="8003" y="7056"/>
                </a:lnTo>
                <a:lnTo>
                  <a:pt x="8261" y="6751"/>
                </a:lnTo>
                <a:close/>
              </a:path>
            </a:pathLst>
          </a:custGeom>
          <a:solidFill>
            <a:srgbClr val="6600cc"/>
          </a:solidFill>
          <a:ln w="1440">
            <a:solidFill>
              <a:srgbClr val="6600c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816360" y="2898720"/>
            <a:ext cx="1427040" cy="1054080"/>
            <a:chOff x="3816360" y="2898720"/>
            <a:chExt cx="1427040" cy="1054080"/>
          </a:xfrm>
        </p:grpSpPr>
        <p:sp>
          <p:nvSpPr>
            <p:cNvPr id="434" name=""/>
            <p:cNvSpPr/>
            <p:nvPr/>
          </p:nvSpPr>
          <p:spPr>
            <a:xfrm>
              <a:off x="3816360" y="2898720"/>
              <a:ext cx="1427040" cy="1054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816360" y="2898720"/>
              <a:ext cx="1427040" cy="105408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989520" y="2898720"/>
              <a:ext cx="0" cy="10540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70600" y="2898720"/>
              <a:ext cx="0" cy="105408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4235760" y="3324240"/>
            <a:ext cx="60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IME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584680" y="2819520"/>
            <a:ext cx="1054080" cy="1177920"/>
            <a:chOff x="5584680" y="2819520"/>
            <a:chExt cx="1054080" cy="1177920"/>
          </a:xfrm>
        </p:grpSpPr>
        <p:sp>
          <p:nvSpPr>
            <p:cNvPr id="440" name=""/>
            <p:cNvSpPr/>
            <p:nvPr/>
          </p:nvSpPr>
          <p:spPr>
            <a:xfrm>
              <a:off x="5584680" y="2819520"/>
              <a:ext cx="1054080" cy="1177920"/>
            </a:xfrm>
            <a:custGeom>
              <a:avLst/>
              <a:gdLst/>
              <a:ahLst/>
              <a:rect l="l" t="t" r="r" b="b"/>
              <a:pathLst>
                <a:path w="3400" h="3800">
                  <a:moveTo>
                    <a:pt x="1700" y="0"/>
                  </a:moveTo>
                  <a:cubicBezTo>
                    <a:pt x="761" y="0"/>
                    <a:pt x="0" y="267"/>
                    <a:pt x="0" y="597"/>
                  </a:cubicBezTo>
                  <a:lnTo>
                    <a:pt x="0" y="3204"/>
                  </a:lnTo>
                  <a:cubicBezTo>
                    <a:pt x="0" y="3533"/>
                    <a:pt x="761" y="3800"/>
                    <a:pt x="1700" y="3800"/>
                  </a:cubicBezTo>
                  <a:cubicBezTo>
                    <a:pt x="2639" y="3800"/>
                    <a:pt x="3400" y="3533"/>
                    <a:pt x="3400" y="3204"/>
                  </a:cubicBezTo>
                  <a:lnTo>
                    <a:pt x="3400" y="597"/>
                  </a:lnTo>
                  <a:cubicBezTo>
                    <a:pt x="3400" y="267"/>
                    <a:pt x="2639" y="0"/>
                    <a:pt x="1700" y="0"/>
                  </a:cubicBezTo>
                  <a:close/>
                </a:path>
              </a:pathLst>
            </a:custGeom>
            <a:solidFill>
              <a:srgbClr val="00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584680" y="2819520"/>
              <a:ext cx="1054080" cy="1177920"/>
            </a:xfrm>
            <a:custGeom>
              <a:avLst/>
              <a:gdLst/>
              <a:ahLst/>
              <a:rect l="l" t="t" r="r" b="b"/>
              <a:pathLst>
                <a:path w="3400" h="3800">
                  <a:moveTo>
                    <a:pt x="1700" y="0"/>
                  </a:moveTo>
                  <a:cubicBezTo>
                    <a:pt x="761" y="0"/>
                    <a:pt x="0" y="267"/>
                    <a:pt x="0" y="597"/>
                  </a:cubicBezTo>
                  <a:lnTo>
                    <a:pt x="0" y="3204"/>
                  </a:lnTo>
                  <a:cubicBezTo>
                    <a:pt x="0" y="3533"/>
                    <a:pt x="761" y="3800"/>
                    <a:pt x="1700" y="3800"/>
                  </a:cubicBezTo>
                  <a:cubicBezTo>
                    <a:pt x="2639" y="3800"/>
                    <a:pt x="3400" y="3533"/>
                    <a:pt x="3400" y="3204"/>
                  </a:cubicBezTo>
                  <a:lnTo>
                    <a:pt x="3400" y="597"/>
                  </a:lnTo>
                  <a:cubicBezTo>
                    <a:pt x="3400" y="267"/>
                    <a:pt x="2639" y="0"/>
                    <a:pt x="1700" y="0"/>
                  </a:cubicBezTo>
                  <a:close/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584680" y="3003480"/>
              <a:ext cx="1054080" cy="185760"/>
            </a:xfrm>
            <a:custGeom>
              <a:avLst/>
              <a:gdLst/>
              <a:ahLst/>
              <a:rect l="l" t="t" r="r" b="b"/>
              <a:pathLst>
                <a:path w="664" h="117">
                  <a:moveTo>
                    <a:pt x="0" y="0"/>
                  </a:moveTo>
                  <a:cubicBezTo>
                    <a:pt x="0" y="64"/>
                    <a:pt x="149" y="117"/>
                    <a:pt x="332" y="117"/>
                  </a:cubicBezTo>
                  <a:cubicBezTo>
                    <a:pt x="515" y="117"/>
                    <a:pt x="664" y="64"/>
                    <a:pt x="664" y="0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5846760" y="328464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ven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13560" y="3508200"/>
            <a:ext cx="82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211720" y="3409920"/>
            <a:ext cx="372960" cy="93600"/>
          </a:xfrm>
          <a:custGeom>
            <a:avLst/>
            <a:gdLst/>
            <a:ahLst/>
            <a:rect l="l" t="t" r="r" b="b"/>
            <a:pathLst>
              <a:path w="235" h="59">
                <a:moveTo>
                  <a:pt x="186" y="39"/>
                </a:moveTo>
                <a:lnTo>
                  <a:pt x="49" y="39"/>
                </a:lnTo>
                <a:lnTo>
                  <a:pt x="49" y="20"/>
                </a:lnTo>
                <a:lnTo>
                  <a:pt x="186" y="20"/>
                </a:lnTo>
                <a:lnTo>
                  <a:pt x="186" y="39"/>
                </a:lnTo>
                <a:close/>
                <a:moveTo>
                  <a:pt x="176" y="0"/>
                </a:moveTo>
                <a:lnTo>
                  <a:pt x="235" y="30"/>
                </a:lnTo>
                <a:lnTo>
                  <a:pt x="176" y="59"/>
                </a:lnTo>
                <a:lnTo>
                  <a:pt x="176" y="0"/>
                </a:lnTo>
                <a:close/>
                <a:moveTo>
                  <a:pt x="59" y="59"/>
                </a:moveTo>
                <a:lnTo>
                  <a:pt x="0" y="30"/>
                </a:lnTo>
                <a:lnTo>
                  <a:pt x="59" y="0"/>
                </a:lnTo>
                <a:lnTo>
                  <a:pt x="59" y="59"/>
                </a:lnTo>
                <a:close/>
              </a:path>
            </a:pathLst>
          </a:custGeom>
          <a:solidFill>
            <a:srgbClr val="009999"/>
          </a:solidFill>
          <a:ln w="1440">
            <a:solidFill>
              <a:srgbClr val="0099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413160" y="2208240"/>
            <a:ext cx="2171520" cy="139680"/>
          </a:xfrm>
          <a:custGeom>
            <a:avLst/>
            <a:gdLst/>
            <a:ahLst/>
            <a:rect l="l" t="t" r="r" b="b"/>
            <a:pathLst>
              <a:path w="1368" h="88">
                <a:moveTo>
                  <a:pt x="1368" y="59"/>
                </a:moveTo>
                <a:lnTo>
                  <a:pt x="1338" y="59"/>
                </a:lnTo>
                <a:lnTo>
                  <a:pt x="1338" y="30"/>
                </a:lnTo>
                <a:lnTo>
                  <a:pt x="1368" y="30"/>
                </a:lnTo>
                <a:lnTo>
                  <a:pt x="1368" y="59"/>
                </a:lnTo>
                <a:close/>
                <a:moveTo>
                  <a:pt x="1309" y="59"/>
                </a:moveTo>
                <a:lnTo>
                  <a:pt x="1280" y="59"/>
                </a:lnTo>
                <a:lnTo>
                  <a:pt x="1280" y="30"/>
                </a:lnTo>
                <a:lnTo>
                  <a:pt x="1309" y="30"/>
                </a:lnTo>
                <a:lnTo>
                  <a:pt x="1309" y="59"/>
                </a:lnTo>
                <a:close/>
                <a:moveTo>
                  <a:pt x="1251" y="59"/>
                </a:moveTo>
                <a:lnTo>
                  <a:pt x="1221" y="59"/>
                </a:lnTo>
                <a:lnTo>
                  <a:pt x="1221" y="30"/>
                </a:lnTo>
                <a:lnTo>
                  <a:pt x="1251" y="30"/>
                </a:lnTo>
                <a:lnTo>
                  <a:pt x="1251" y="59"/>
                </a:lnTo>
                <a:close/>
                <a:moveTo>
                  <a:pt x="1192" y="59"/>
                </a:moveTo>
                <a:lnTo>
                  <a:pt x="1163" y="59"/>
                </a:lnTo>
                <a:lnTo>
                  <a:pt x="1163" y="30"/>
                </a:lnTo>
                <a:lnTo>
                  <a:pt x="1192" y="30"/>
                </a:lnTo>
                <a:lnTo>
                  <a:pt x="1192" y="59"/>
                </a:lnTo>
                <a:close/>
                <a:moveTo>
                  <a:pt x="1133" y="59"/>
                </a:moveTo>
                <a:lnTo>
                  <a:pt x="1104" y="59"/>
                </a:lnTo>
                <a:lnTo>
                  <a:pt x="1104" y="30"/>
                </a:lnTo>
                <a:lnTo>
                  <a:pt x="1133" y="30"/>
                </a:lnTo>
                <a:lnTo>
                  <a:pt x="1133" y="59"/>
                </a:lnTo>
                <a:close/>
                <a:moveTo>
                  <a:pt x="1075" y="59"/>
                </a:moveTo>
                <a:lnTo>
                  <a:pt x="1045" y="59"/>
                </a:lnTo>
                <a:lnTo>
                  <a:pt x="1045" y="30"/>
                </a:lnTo>
                <a:lnTo>
                  <a:pt x="1075" y="30"/>
                </a:lnTo>
                <a:lnTo>
                  <a:pt x="1075" y="59"/>
                </a:lnTo>
                <a:close/>
                <a:moveTo>
                  <a:pt x="1016" y="59"/>
                </a:moveTo>
                <a:lnTo>
                  <a:pt x="987" y="59"/>
                </a:lnTo>
                <a:lnTo>
                  <a:pt x="987" y="30"/>
                </a:lnTo>
                <a:lnTo>
                  <a:pt x="1016" y="30"/>
                </a:lnTo>
                <a:lnTo>
                  <a:pt x="1016" y="59"/>
                </a:lnTo>
                <a:close/>
                <a:moveTo>
                  <a:pt x="958" y="59"/>
                </a:moveTo>
                <a:lnTo>
                  <a:pt x="928" y="59"/>
                </a:lnTo>
                <a:lnTo>
                  <a:pt x="928" y="30"/>
                </a:lnTo>
                <a:lnTo>
                  <a:pt x="958" y="30"/>
                </a:lnTo>
                <a:lnTo>
                  <a:pt x="958" y="59"/>
                </a:lnTo>
                <a:close/>
                <a:moveTo>
                  <a:pt x="899" y="59"/>
                </a:moveTo>
                <a:lnTo>
                  <a:pt x="870" y="59"/>
                </a:lnTo>
                <a:lnTo>
                  <a:pt x="870" y="30"/>
                </a:lnTo>
                <a:lnTo>
                  <a:pt x="899" y="30"/>
                </a:lnTo>
                <a:lnTo>
                  <a:pt x="899" y="59"/>
                </a:lnTo>
                <a:close/>
                <a:moveTo>
                  <a:pt x="840" y="59"/>
                </a:moveTo>
                <a:lnTo>
                  <a:pt x="811" y="59"/>
                </a:lnTo>
                <a:lnTo>
                  <a:pt x="811" y="30"/>
                </a:lnTo>
                <a:lnTo>
                  <a:pt x="840" y="30"/>
                </a:lnTo>
                <a:lnTo>
                  <a:pt x="840" y="59"/>
                </a:lnTo>
                <a:close/>
                <a:moveTo>
                  <a:pt x="782" y="59"/>
                </a:moveTo>
                <a:lnTo>
                  <a:pt x="752" y="59"/>
                </a:lnTo>
                <a:lnTo>
                  <a:pt x="752" y="30"/>
                </a:lnTo>
                <a:lnTo>
                  <a:pt x="782" y="30"/>
                </a:lnTo>
                <a:lnTo>
                  <a:pt x="782" y="59"/>
                </a:lnTo>
                <a:close/>
                <a:moveTo>
                  <a:pt x="723" y="59"/>
                </a:moveTo>
                <a:lnTo>
                  <a:pt x="694" y="59"/>
                </a:lnTo>
                <a:lnTo>
                  <a:pt x="694" y="30"/>
                </a:lnTo>
                <a:lnTo>
                  <a:pt x="723" y="30"/>
                </a:lnTo>
                <a:lnTo>
                  <a:pt x="723" y="59"/>
                </a:lnTo>
                <a:close/>
                <a:moveTo>
                  <a:pt x="664" y="59"/>
                </a:moveTo>
                <a:lnTo>
                  <a:pt x="635" y="59"/>
                </a:lnTo>
                <a:lnTo>
                  <a:pt x="635" y="30"/>
                </a:lnTo>
                <a:lnTo>
                  <a:pt x="664" y="30"/>
                </a:lnTo>
                <a:lnTo>
                  <a:pt x="664" y="59"/>
                </a:lnTo>
                <a:close/>
                <a:moveTo>
                  <a:pt x="606" y="59"/>
                </a:moveTo>
                <a:lnTo>
                  <a:pt x="577" y="59"/>
                </a:lnTo>
                <a:lnTo>
                  <a:pt x="577" y="30"/>
                </a:lnTo>
                <a:lnTo>
                  <a:pt x="606" y="30"/>
                </a:lnTo>
                <a:lnTo>
                  <a:pt x="606" y="59"/>
                </a:lnTo>
                <a:close/>
                <a:moveTo>
                  <a:pt x="547" y="59"/>
                </a:moveTo>
                <a:lnTo>
                  <a:pt x="518" y="59"/>
                </a:lnTo>
                <a:lnTo>
                  <a:pt x="518" y="30"/>
                </a:lnTo>
                <a:lnTo>
                  <a:pt x="547" y="30"/>
                </a:lnTo>
                <a:lnTo>
                  <a:pt x="547" y="59"/>
                </a:lnTo>
                <a:close/>
                <a:moveTo>
                  <a:pt x="489" y="59"/>
                </a:moveTo>
                <a:lnTo>
                  <a:pt x="459" y="59"/>
                </a:lnTo>
                <a:lnTo>
                  <a:pt x="459" y="30"/>
                </a:lnTo>
                <a:lnTo>
                  <a:pt x="489" y="30"/>
                </a:lnTo>
                <a:lnTo>
                  <a:pt x="489" y="59"/>
                </a:lnTo>
                <a:close/>
                <a:moveTo>
                  <a:pt x="430" y="59"/>
                </a:moveTo>
                <a:lnTo>
                  <a:pt x="401" y="59"/>
                </a:lnTo>
                <a:lnTo>
                  <a:pt x="401" y="30"/>
                </a:lnTo>
                <a:lnTo>
                  <a:pt x="430" y="30"/>
                </a:lnTo>
                <a:lnTo>
                  <a:pt x="430" y="59"/>
                </a:lnTo>
                <a:close/>
                <a:moveTo>
                  <a:pt x="371" y="59"/>
                </a:moveTo>
                <a:lnTo>
                  <a:pt x="342" y="59"/>
                </a:lnTo>
                <a:lnTo>
                  <a:pt x="342" y="30"/>
                </a:lnTo>
                <a:lnTo>
                  <a:pt x="371" y="30"/>
                </a:lnTo>
                <a:lnTo>
                  <a:pt x="371" y="59"/>
                </a:lnTo>
                <a:close/>
                <a:moveTo>
                  <a:pt x="313" y="59"/>
                </a:moveTo>
                <a:lnTo>
                  <a:pt x="284" y="59"/>
                </a:lnTo>
                <a:lnTo>
                  <a:pt x="284" y="30"/>
                </a:lnTo>
                <a:lnTo>
                  <a:pt x="313" y="30"/>
                </a:lnTo>
                <a:lnTo>
                  <a:pt x="313" y="59"/>
                </a:lnTo>
                <a:close/>
                <a:moveTo>
                  <a:pt x="254" y="59"/>
                </a:moveTo>
                <a:lnTo>
                  <a:pt x="225" y="59"/>
                </a:lnTo>
                <a:lnTo>
                  <a:pt x="225" y="30"/>
                </a:lnTo>
                <a:lnTo>
                  <a:pt x="254" y="30"/>
                </a:lnTo>
                <a:lnTo>
                  <a:pt x="254" y="59"/>
                </a:lnTo>
                <a:close/>
                <a:moveTo>
                  <a:pt x="196" y="59"/>
                </a:moveTo>
                <a:lnTo>
                  <a:pt x="166" y="59"/>
                </a:lnTo>
                <a:lnTo>
                  <a:pt x="166" y="30"/>
                </a:lnTo>
                <a:lnTo>
                  <a:pt x="196" y="30"/>
                </a:lnTo>
                <a:lnTo>
                  <a:pt x="196" y="59"/>
                </a:lnTo>
                <a:close/>
                <a:moveTo>
                  <a:pt x="137" y="59"/>
                </a:moveTo>
                <a:lnTo>
                  <a:pt x="108" y="59"/>
                </a:lnTo>
                <a:lnTo>
                  <a:pt x="108" y="30"/>
                </a:lnTo>
                <a:lnTo>
                  <a:pt x="137" y="30"/>
                </a:lnTo>
                <a:lnTo>
                  <a:pt x="137" y="59"/>
                </a:lnTo>
                <a:close/>
                <a:moveTo>
                  <a:pt x="78" y="59"/>
                </a:moveTo>
                <a:lnTo>
                  <a:pt x="74" y="59"/>
                </a:lnTo>
                <a:lnTo>
                  <a:pt x="74" y="30"/>
                </a:lnTo>
                <a:lnTo>
                  <a:pt x="78" y="30"/>
                </a:lnTo>
                <a:lnTo>
                  <a:pt x="78" y="59"/>
                </a:lnTo>
                <a:close/>
                <a:moveTo>
                  <a:pt x="88" y="88"/>
                </a:moveTo>
                <a:lnTo>
                  <a:pt x="0" y="44"/>
                </a:lnTo>
                <a:lnTo>
                  <a:pt x="88" y="0"/>
                </a:lnTo>
                <a:lnTo>
                  <a:pt x="88" y="88"/>
                </a:lnTo>
                <a:close/>
              </a:path>
            </a:pathLst>
          </a:custGeom>
          <a:solidFill>
            <a:srgbClr val="777777"/>
          </a:solidFill>
          <a:ln w="1440">
            <a:solidFill>
              <a:srgbClr val="77777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751760" y="1704960"/>
            <a:ext cx="657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00ff"/>
                </a:solidFill>
                <a:latin typeface="Arial"/>
              </a:rPr>
              <a:t>Mode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087960" y="1704960"/>
            <a:ext cx="1221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999"/>
                </a:solidFill>
                <a:latin typeface="Arial"/>
              </a:rPr>
              <a:t>Observ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437000" y="3957480"/>
            <a:ext cx="185760" cy="987480"/>
          </a:xfrm>
          <a:custGeom>
            <a:avLst/>
            <a:gdLst/>
            <a:ahLst/>
            <a:rect l="l" t="t" r="r" b="b"/>
            <a:pathLst>
              <a:path w="117" h="622">
                <a:moveTo>
                  <a:pt x="78" y="0"/>
                </a:moveTo>
                <a:lnTo>
                  <a:pt x="78" y="525"/>
                </a:lnTo>
                <a:lnTo>
                  <a:pt x="39" y="525"/>
                </a:lnTo>
                <a:lnTo>
                  <a:pt x="39" y="0"/>
                </a:lnTo>
                <a:lnTo>
                  <a:pt x="78" y="0"/>
                </a:lnTo>
                <a:close/>
                <a:moveTo>
                  <a:pt x="117" y="505"/>
                </a:moveTo>
                <a:lnTo>
                  <a:pt x="59" y="622"/>
                </a:lnTo>
                <a:lnTo>
                  <a:pt x="0" y="505"/>
                </a:lnTo>
                <a:lnTo>
                  <a:pt x="117" y="505"/>
                </a:lnTo>
                <a:close/>
              </a:path>
            </a:pathLst>
          </a:custGeom>
          <a:solidFill>
            <a:srgbClr val="3333cc"/>
          </a:solidFill>
          <a:ln w="1440">
            <a:solidFill>
              <a:srgbClr val="3333c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042800" y="5045040"/>
            <a:ext cx="1203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rror metrics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72240" y="5268960"/>
            <a:ext cx="135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agnostic plo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096800" y="5716440"/>
            <a:ext cx="1096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30840" y="5938920"/>
            <a:ext cx="143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ables &amp; Graph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042800" y="5045040"/>
            <a:ext cx="1203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rror metrics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972240" y="5268960"/>
            <a:ext cx="135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agnostic plo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096800" y="5716440"/>
            <a:ext cx="1096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930840" y="5938920"/>
            <a:ext cx="143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ables &amp; Graph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6783480" y="4014720"/>
            <a:ext cx="1344600" cy="825480"/>
            <a:chOff x="6783480" y="4014720"/>
            <a:chExt cx="1344600" cy="825480"/>
          </a:xfrm>
        </p:grpSpPr>
        <p:sp>
          <p:nvSpPr>
            <p:cNvPr id="459" name=""/>
            <p:cNvSpPr/>
            <p:nvPr/>
          </p:nvSpPr>
          <p:spPr>
            <a:xfrm>
              <a:off x="6783480" y="4014720"/>
              <a:ext cx="1116000" cy="576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0" name="" descr=""/>
            <p:cNvPicPr/>
            <p:nvPr/>
          </p:nvPicPr>
          <p:blipFill>
            <a:blip r:embed="rId11"/>
            <a:stretch/>
          </p:blipFill>
          <p:spPr>
            <a:xfrm>
              <a:off x="6783480" y="4014720"/>
              <a:ext cx="111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6783480" y="4014720"/>
              <a:ext cx="1116000" cy="576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96160" y="4138560"/>
              <a:ext cx="1117440" cy="576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3" name="" descr=""/>
            <p:cNvPicPr/>
            <p:nvPr/>
          </p:nvPicPr>
          <p:blipFill>
            <a:blip r:embed="rId12"/>
            <a:stretch/>
          </p:blipFill>
          <p:spPr>
            <a:xfrm>
              <a:off x="6897600" y="4138560"/>
              <a:ext cx="111600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6896160" y="4138560"/>
              <a:ext cx="1117440" cy="576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012080" y="4264200"/>
              <a:ext cx="1116000" cy="576000"/>
            </a:xfrm>
            <a:prstGeom prst="rect">
              <a:avLst/>
            </a:prstGeom>
            <a:solidFill>
              <a:srgbClr val="5e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12080" y="4264200"/>
              <a:ext cx="1116000" cy="57600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7138800" y="4343400"/>
            <a:ext cx="884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urrican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74520" y="4567320"/>
            <a:ext cx="60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Katri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6783480" y="3005280"/>
            <a:ext cx="1344600" cy="823680"/>
            <a:chOff x="6783480" y="3005280"/>
            <a:chExt cx="1344600" cy="823680"/>
          </a:xfrm>
        </p:grpSpPr>
        <p:sp>
          <p:nvSpPr>
            <p:cNvPr id="470" name=""/>
            <p:cNvSpPr/>
            <p:nvPr/>
          </p:nvSpPr>
          <p:spPr>
            <a:xfrm>
              <a:off x="6783480" y="3005280"/>
              <a:ext cx="1116000" cy="576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1" name="" descr=""/>
            <p:cNvPicPr/>
            <p:nvPr/>
          </p:nvPicPr>
          <p:blipFill>
            <a:blip r:embed="rId13"/>
            <a:stretch/>
          </p:blipFill>
          <p:spPr>
            <a:xfrm>
              <a:off x="6783480" y="3005280"/>
              <a:ext cx="111600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6783480" y="3005280"/>
              <a:ext cx="1116000" cy="576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896160" y="3129120"/>
              <a:ext cx="1117440" cy="57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4" name="" descr=""/>
            <p:cNvPicPr/>
            <p:nvPr/>
          </p:nvPicPr>
          <p:blipFill>
            <a:blip r:embed="rId14"/>
            <a:stretch/>
          </p:blipFill>
          <p:spPr>
            <a:xfrm>
              <a:off x="6897600" y="3129120"/>
              <a:ext cx="111600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6896160" y="3129120"/>
              <a:ext cx="1117440" cy="57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12080" y="3252960"/>
              <a:ext cx="1116000" cy="576000"/>
            </a:xfrm>
            <a:prstGeom prst="rect">
              <a:avLst/>
            </a:prstGeom>
            <a:solidFill>
              <a:srgbClr val="5e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012080" y="3252960"/>
              <a:ext cx="1116000" cy="57600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7019280" y="3333600"/>
            <a:ext cx="1130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anksgiv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320960" y="3556080"/>
            <a:ext cx="50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or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783480" y="2030400"/>
            <a:ext cx="1344600" cy="824040"/>
            <a:chOff x="6783480" y="2030400"/>
            <a:chExt cx="1344600" cy="824040"/>
          </a:xfrm>
        </p:grpSpPr>
        <p:sp>
          <p:nvSpPr>
            <p:cNvPr id="481" name=""/>
            <p:cNvSpPr/>
            <p:nvPr/>
          </p:nvSpPr>
          <p:spPr>
            <a:xfrm>
              <a:off x="6783480" y="2030400"/>
              <a:ext cx="1116000" cy="576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2" name="" descr=""/>
            <p:cNvPicPr/>
            <p:nvPr/>
          </p:nvPicPr>
          <p:blipFill>
            <a:blip r:embed="rId15"/>
            <a:stretch/>
          </p:blipFill>
          <p:spPr>
            <a:xfrm>
              <a:off x="6783480" y="2030400"/>
              <a:ext cx="111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6783480" y="2030400"/>
              <a:ext cx="1116000" cy="576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96160" y="2154240"/>
              <a:ext cx="1117440" cy="576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5" name="" descr=""/>
            <p:cNvPicPr/>
            <p:nvPr/>
          </p:nvPicPr>
          <p:blipFill>
            <a:blip r:embed="rId16"/>
            <a:stretch/>
          </p:blipFill>
          <p:spPr>
            <a:xfrm>
              <a:off x="6897600" y="2154240"/>
              <a:ext cx="111600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6896160" y="2154240"/>
              <a:ext cx="1117440" cy="576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012080" y="2278080"/>
              <a:ext cx="1116000" cy="576360"/>
            </a:xfrm>
            <a:prstGeom prst="rect">
              <a:avLst/>
            </a:prstGeom>
            <a:solidFill>
              <a:srgbClr val="5e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12080" y="2278080"/>
              <a:ext cx="1116000" cy="57636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7138800" y="2357280"/>
            <a:ext cx="884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urrican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320240" y="2583000"/>
            <a:ext cx="51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sab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38760" y="2575080"/>
            <a:ext cx="378000" cy="633240"/>
          </a:xfrm>
          <a:custGeom>
            <a:avLst/>
            <a:gdLst/>
            <a:ahLst/>
            <a:rect l="l" t="t" r="r" b="b"/>
            <a:pathLst>
              <a:path w="1219" h="2044">
                <a:moveTo>
                  <a:pt x="1214" y="28"/>
                </a:moveTo>
                <a:lnTo>
                  <a:pt x="99" y="1910"/>
                </a:lnTo>
                <a:cubicBezTo>
                  <a:pt x="94" y="1918"/>
                  <a:pt x="84" y="1920"/>
                  <a:pt x="76" y="1915"/>
                </a:cubicBezTo>
                <a:cubicBezTo>
                  <a:pt x="68" y="1911"/>
                  <a:pt x="66" y="1901"/>
                  <a:pt x="70" y="1893"/>
                </a:cubicBezTo>
                <a:lnTo>
                  <a:pt x="1185" y="11"/>
                </a:lnTo>
                <a:cubicBezTo>
                  <a:pt x="1190" y="3"/>
                  <a:pt x="1200" y="0"/>
                  <a:pt x="1208" y="5"/>
                </a:cubicBezTo>
                <a:cubicBezTo>
                  <a:pt x="1216" y="10"/>
                  <a:pt x="1219" y="20"/>
                  <a:pt x="1214" y="28"/>
                </a:cubicBezTo>
                <a:close/>
                <a:moveTo>
                  <a:pt x="188" y="1923"/>
                </a:moveTo>
                <a:lnTo>
                  <a:pt x="0" y="2044"/>
                </a:lnTo>
                <a:lnTo>
                  <a:pt x="16" y="1821"/>
                </a:lnTo>
                <a:lnTo>
                  <a:pt x="188" y="1923"/>
                </a:lnTo>
                <a:close/>
              </a:path>
            </a:pathLst>
          </a:custGeom>
          <a:solidFill>
            <a:srgbClr val="009999"/>
          </a:solidFill>
          <a:ln w="1440">
            <a:solidFill>
              <a:srgbClr val="0099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38760" y="3451320"/>
            <a:ext cx="378000" cy="88920"/>
          </a:xfrm>
          <a:custGeom>
            <a:avLst/>
            <a:gdLst/>
            <a:ahLst/>
            <a:rect l="l" t="t" r="r" b="b"/>
            <a:pathLst>
              <a:path w="1218" h="283">
                <a:moveTo>
                  <a:pt x="1203" y="34"/>
                </a:moveTo>
                <a:lnTo>
                  <a:pt x="167" y="207"/>
                </a:lnTo>
                <a:cubicBezTo>
                  <a:pt x="158" y="208"/>
                  <a:pt x="149" y="202"/>
                  <a:pt x="148" y="193"/>
                </a:cubicBezTo>
                <a:cubicBezTo>
                  <a:pt x="146" y="184"/>
                  <a:pt x="152" y="175"/>
                  <a:pt x="161" y="174"/>
                </a:cubicBezTo>
                <a:lnTo>
                  <a:pt x="1197" y="1"/>
                </a:lnTo>
                <a:cubicBezTo>
                  <a:pt x="1206" y="0"/>
                  <a:pt x="1215" y="6"/>
                  <a:pt x="1216" y="15"/>
                </a:cubicBezTo>
                <a:cubicBezTo>
                  <a:pt x="1218" y="24"/>
                  <a:pt x="1212" y="32"/>
                  <a:pt x="1203" y="34"/>
                </a:cubicBezTo>
                <a:close/>
                <a:moveTo>
                  <a:pt x="214" y="283"/>
                </a:moveTo>
                <a:lnTo>
                  <a:pt x="0" y="217"/>
                </a:lnTo>
                <a:lnTo>
                  <a:pt x="181" y="86"/>
                </a:lnTo>
                <a:lnTo>
                  <a:pt x="214" y="283"/>
                </a:lnTo>
                <a:close/>
              </a:path>
            </a:pathLst>
          </a:custGeom>
          <a:solidFill>
            <a:srgbClr val="009999"/>
          </a:solidFill>
          <a:ln w="1440">
            <a:solidFill>
              <a:srgbClr val="0099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638760" y="3890880"/>
            <a:ext cx="378000" cy="530280"/>
          </a:xfrm>
          <a:custGeom>
            <a:avLst/>
            <a:gdLst/>
            <a:ahLst/>
            <a:rect l="l" t="t" r="r" b="b"/>
            <a:pathLst>
              <a:path w="1219" h="1707">
                <a:moveTo>
                  <a:pt x="1186" y="1698"/>
                </a:moveTo>
                <a:lnTo>
                  <a:pt x="83" y="146"/>
                </a:lnTo>
                <a:cubicBezTo>
                  <a:pt x="77" y="138"/>
                  <a:pt x="79" y="128"/>
                  <a:pt x="87" y="123"/>
                </a:cubicBezTo>
                <a:cubicBezTo>
                  <a:pt x="94" y="117"/>
                  <a:pt x="105" y="119"/>
                  <a:pt x="110" y="127"/>
                </a:cubicBezTo>
                <a:lnTo>
                  <a:pt x="1213" y="1678"/>
                </a:lnTo>
                <a:cubicBezTo>
                  <a:pt x="1219" y="1686"/>
                  <a:pt x="1217" y="1696"/>
                  <a:pt x="1209" y="1702"/>
                </a:cubicBezTo>
                <a:cubicBezTo>
                  <a:pt x="1202" y="1707"/>
                  <a:pt x="1192" y="1705"/>
                  <a:pt x="1186" y="1698"/>
                </a:cubicBezTo>
                <a:close/>
                <a:moveTo>
                  <a:pt x="34" y="221"/>
                </a:moveTo>
                <a:lnTo>
                  <a:pt x="0" y="0"/>
                </a:lnTo>
                <a:lnTo>
                  <a:pt x="197" y="106"/>
                </a:lnTo>
                <a:lnTo>
                  <a:pt x="34" y="221"/>
                </a:lnTo>
                <a:close/>
              </a:path>
            </a:pathLst>
          </a:custGeom>
          <a:solidFill>
            <a:srgbClr val="009999"/>
          </a:solidFill>
          <a:ln w="1440">
            <a:solidFill>
              <a:srgbClr val="00999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057400" y="4572000"/>
            <a:ext cx="1447920" cy="1066680"/>
          </a:xfrm>
          <a:custGeom>
            <a:avLst/>
            <a:gdLst/>
            <a:ahLst/>
            <a:rect l="l" t="t" r="r" b="b"/>
            <a:pathLst>
              <a:path w="912" h="672">
                <a:moveTo>
                  <a:pt x="912" y="672"/>
                </a:moveTo>
                <a:lnTo>
                  <a:pt x="0" y="67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1379520" y="3767040"/>
            <a:ext cx="1211040" cy="558720"/>
            <a:chOff x="1379520" y="3767040"/>
            <a:chExt cx="1211040" cy="558720"/>
          </a:xfrm>
        </p:grpSpPr>
        <p:grpSp>
          <p:nvGrpSpPr>
            <p:cNvPr id="496" name=""/>
            <p:cNvGrpSpPr/>
            <p:nvPr/>
          </p:nvGrpSpPr>
          <p:grpSpPr>
            <a:xfrm>
              <a:off x="1379520" y="3767040"/>
              <a:ext cx="1211040" cy="558720"/>
              <a:chOff x="1379520" y="3767040"/>
              <a:chExt cx="1211040" cy="558720"/>
            </a:xfrm>
          </p:grpSpPr>
          <p:sp>
            <p:nvSpPr>
              <p:cNvPr id="497" name=""/>
              <p:cNvSpPr/>
              <p:nvPr/>
            </p:nvSpPr>
            <p:spPr>
              <a:xfrm>
                <a:off x="1379520" y="3767040"/>
                <a:ext cx="1211040" cy="55872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79520" y="3767040"/>
                <a:ext cx="1211040" cy="55872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1445040" y="3949560"/>
              <a:ext cx="1023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Water Lev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0" name="" descr=""/>
          <p:cNvPicPr/>
          <p:nvPr/>
        </p:nvPicPr>
        <p:blipFill>
          <a:blip r:embed="rId17"/>
          <a:stretch/>
        </p:blipFill>
        <p:spPr>
          <a:xfrm>
            <a:off x="7772400" y="19080"/>
            <a:ext cx="1235160" cy="954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2743200" y="1657440"/>
            <a:ext cx="6248520" cy="459108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101520" y="1828800"/>
            <a:ext cx="2565360" cy="396252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3048120" y="152280"/>
            <a:ext cx="2514600" cy="81612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1523880" y="1143000"/>
            <a:ext cx="67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ahoma"/>
              </a:rPr>
              <a:t>Robust Statistical Analysis of Model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4"/>
          <a:stretch/>
        </p:blipFill>
        <p:spPr>
          <a:xfrm>
            <a:off x="7772400" y="19080"/>
            <a:ext cx="1235160" cy="95400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152280" y="63244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WAVE Study:  Wave height bias used to quantify model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inding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" y="1523880"/>
            <a:ext cx="845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FRF Cross-Shore wave array captures all phases of wave transformation across the shelf.  Three transformation regimes were observed: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ottom friction do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hoaling do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pth breaking do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228600" y="3962520"/>
            <a:ext cx="4800600" cy="2286000"/>
            <a:chOff x="228600" y="3962520"/>
            <a:chExt cx="4800600" cy="2286000"/>
          </a:xfrm>
        </p:grpSpPr>
        <p:pic>
          <p:nvPicPr>
            <p:cNvPr id="510" name="" descr=""/>
            <p:cNvPicPr/>
            <p:nvPr/>
          </p:nvPicPr>
          <p:blipFill>
            <a:blip r:embed="rId1"/>
            <a:srcRect l="0" t="1548" r="0" b="51925"/>
            <a:stretch/>
          </p:blipFill>
          <p:spPr>
            <a:xfrm>
              <a:off x="228600" y="3962520"/>
              <a:ext cx="4800600" cy="2286000"/>
            </a:xfrm>
            <a:prstGeom prst="rect">
              <a:avLst/>
            </a:prstGeom>
            <a:ln w="1908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511" name=""/>
            <p:cNvSpPr/>
            <p:nvPr/>
          </p:nvSpPr>
          <p:spPr>
            <a:xfrm>
              <a:off x="608760" y="4191120"/>
              <a:ext cx="1732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Hurricane Bi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905120" y="396252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257800" y="3089160"/>
            <a:ext cx="3733920" cy="3159360"/>
            <a:chOff x="5257800" y="3089160"/>
            <a:chExt cx="3733920" cy="3159360"/>
          </a:xfrm>
        </p:grpSpPr>
        <p:pic>
          <p:nvPicPr>
            <p:cNvPr id="514" name="" descr=""/>
            <p:cNvPicPr/>
            <p:nvPr/>
          </p:nvPicPr>
          <p:blipFill>
            <a:blip r:embed="rId2"/>
            <a:srcRect l="50007" t="51703" r="2776" b="0"/>
            <a:stretch/>
          </p:blipFill>
          <p:spPr>
            <a:xfrm>
              <a:off x="5257800" y="3089160"/>
              <a:ext cx="3733920" cy="3159360"/>
            </a:xfrm>
            <a:prstGeom prst="rect">
              <a:avLst/>
            </a:prstGeom>
            <a:ln w="1908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515" name=""/>
            <p:cNvSpPr/>
            <p:nvPr/>
          </p:nvSpPr>
          <p:spPr>
            <a:xfrm>
              <a:off x="6095880" y="320040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37339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significant challenge to numerical wave modeling is capturing the dynamics of wave transformation in coastal wa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4479840"/>
            <a:ext cx="84582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ssipation processes are the least well-represented in numerical spectral wave model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569916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areful measurements of coastal wave transformation are required to support the advancement of improved model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16040" y="1295280"/>
            <a:ext cx="7742160" cy="2133720"/>
          </a:xfrm>
          <a:prstGeom prst="rect">
            <a:avLst/>
          </a:prstGeom>
          <a:ln w="9360">
            <a:solidFill>
              <a:srgbClr val="33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rcRect l="0" t="0" r="53354" b="68198"/>
          <a:stretch/>
        </p:blipFill>
        <p:spPr>
          <a:xfrm>
            <a:off x="304920" y="2124000"/>
            <a:ext cx="4190760" cy="290520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"/>
          <a:srcRect l="0" t="64769" r="51901" b="0"/>
          <a:stretch/>
        </p:blipFill>
        <p:spPr>
          <a:xfrm>
            <a:off x="4800600" y="2021040"/>
            <a:ext cx="4038480" cy="300816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609480" y="54864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ighly nonlinear Event 4 (Hurricane Bill) wave heights significantly under-predicted by STWAVE-FP at these shallow depths (using bottom friction source te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32440" y="1523880"/>
            <a:ext cx="80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ence of STWAVE-FP Wave-Height Bias on Friction Coefficient 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Finding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Finding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3657600" y="2362320"/>
            <a:ext cx="5181120" cy="4266720"/>
            <a:chOff x="3657600" y="2362320"/>
            <a:chExt cx="5181120" cy="426672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rcRect l="3022" t="4032" r="5976" b="0"/>
            <a:stretch/>
          </p:blipFill>
          <p:spPr>
            <a:xfrm>
              <a:off x="3657600" y="2362320"/>
              <a:ext cx="5181120" cy="42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7806240" y="531144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907040" y="43963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005320" y="374328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105040" y="31759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143200" y="272664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304920" y="1219320"/>
            <a:ext cx="830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ve nonlinearity is a critical factor influencing STWAVE-FP results in shallow water.  The Ursell Number was used as a guide in eliminating Event 4 (Hurricane Bil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565920" y="4113360"/>
            <a:ext cx="2433600" cy="842040"/>
            <a:chOff x="565920" y="4113360"/>
            <a:chExt cx="2433600" cy="842040"/>
          </a:xfrm>
        </p:grpSpPr>
        <p:sp>
          <p:nvSpPr>
            <p:cNvPr id="531" name=""/>
            <p:cNvSpPr/>
            <p:nvPr/>
          </p:nvSpPr>
          <p:spPr>
            <a:xfrm>
              <a:off x="565920" y="4305240"/>
              <a:ext cx="1203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Ursel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1786680" y="4113360"/>
              <a:ext cx="1212840" cy="842040"/>
              <a:chOff x="1786680" y="4113360"/>
              <a:chExt cx="1212840" cy="842040"/>
            </a:xfrm>
          </p:grpSpPr>
          <p:sp>
            <p:nvSpPr>
              <p:cNvPr id="533" name=""/>
              <p:cNvSpPr/>
              <p:nvPr/>
            </p:nvSpPr>
            <p:spPr>
              <a:xfrm>
                <a:off x="1786680" y="4113360"/>
                <a:ext cx="1212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g H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T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069640" y="4495680"/>
                <a:ext cx="44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40320" y="456048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6" name=""/>
          <p:cNvSpPr/>
          <p:nvPr/>
        </p:nvSpPr>
        <p:spPr>
          <a:xfrm>
            <a:off x="4245480" y="2514600"/>
            <a:ext cx="70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-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52280" y="2743200"/>
            <a:ext cx="3292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Ursell number compares Wave steepness to the water dep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57200" y="3962520"/>
            <a:ext cx="266688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Finding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7200" y="548640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mbined data from 3 wave events at all stations yields an optimum Mannings bottom friction coefficient of n ≈ 0.07, resulting in a wave height bias of -0.02 m and RMS error of 0.15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rcRect l="18806" t="0" r="21012" b="0"/>
          <a:stretch/>
        </p:blipFill>
        <p:spPr>
          <a:xfrm>
            <a:off x="5029200" y="1447920"/>
            <a:ext cx="3736800" cy="3762360"/>
          </a:xfrm>
          <a:prstGeom prst="rect">
            <a:avLst/>
          </a:prstGeom>
          <a:ln w="19080">
            <a:solidFill>
              <a:srgbClr val="33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grpSp>
        <p:nvGrpSpPr>
          <p:cNvPr id="542" name=""/>
          <p:cNvGrpSpPr/>
          <p:nvPr/>
        </p:nvGrpSpPr>
        <p:grpSpPr>
          <a:xfrm>
            <a:off x="380880" y="1471680"/>
            <a:ext cx="4419720" cy="3697200"/>
            <a:chOff x="380880" y="1471680"/>
            <a:chExt cx="4419720" cy="3697200"/>
          </a:xfrm>
        </p:grpSpPr>
        <p:pic>
          <p:nvPicPr>
            <p:cNvPr id="543" name="" descr=""/>
            <p:cNvPicPr/>
            <p:nvPr/>
          </p:nvPicPr>
          <p:blipFill>
            <a:blip r:embed="rId2"/>
            <a:stretch/>
          </p:blipFill>
          <p:spPr>
            <a:xfrm>
              <a:off x="380880" y="1471680"/>
              <a:ext cx="4419720" cy="3697200"/>
            </a:xfrm>
            <a:prstGeom prst="rect">
              <a:avLst/>
            </a:prstGeom>
            <a:ln w="19080">
              <a:solidFill>
                <a:srgbClr val="3366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544" name=""/>
            <p:cNvSpPr/>
            <p:nvPr/>
          </p:nvSpPr>
          <p:spPr>
            <a:xfrm flipV="1">
              <a:off x="3581280" y="2514600"/>
              <a:ext cx="0" cy="19051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557280" y="1066680"/>
            <a:ext cx="388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l Hs Bias and Friction Coeffic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113800" y="1066680"/>
            <a:ext cx="332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l Performance with n = 0.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Finding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" y="13716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FRF Cross-Shore wave array captures all phases of wave transformation across the shelf.  Three transformation regimes were noted:  Bottom friction, Shoaling and brea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" y="486108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mbined data from 3 wave events at all stations yields an optimum Mannings bottom friction coefficient of n ≈ 0.07, resulting in a wave height bias of -0.02 m and RMS error of 0.15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57200" y="25639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ighly nonlinear Event 4 (Hurricane Bill) wave heights significantly under-predicted by STWAVE-FP at these shallow depths (using bottom friction source t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57200" y="366696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ve nonlinearity is a critical factor influencing STWAVE-FP results in shallow water.  The Ursell Number was used as a guide in selecting valid ru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hank You…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pproach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4131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ta obtained from a new cross-shore wave and current array in the energetic environment off Duck, 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1341360"/>
            <a:ext cx="2895480" cy="1787760"/>
          </a:xfrm>
          <a:prstGeom prst="rect">
            <a:avLst/>
          </a:prstGeom>
          <a:ln w="19080">
            <a:solidFill>
              <a:srgbClr val="33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grpSp>
        <p:nvGrpSpPr>
          <p:cNvPr id="152" name=""/>
          <p:cNvGrpSpPr/>
          <p:nvPr/>
        </p:nvGrpSpPr>
        <p:grpSpPr>
          <a:xfrm>
            <a:off x="1054080" y="1481040"/>
            <a:ext cx="2036880" cy="1019160"/>
            <a:chOff x="1054080" y="1481040"/>
            <a:chExt cx="2036880" cy="1019160"/>
          </a:xfrm>
        </p:grpSpPr>
        <p:sp>
          <p:nvSpPr>
            <p:cNvPr id="153" name=""/>
            <p:cNvSpPr/>
            <p:nvPr/>
          </p:nvSpPr>
          <p:spPr>
            <a:xfrm>
              <a:off x="1144080" y="1990800"/>
              <a:ext cx="604080" cy="50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71320" y="1893960"/>
              <a:ext cx="276840" cy="606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748520" y="1772280"/>
              <a:ext cx="402480" cy="7275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748160" y="1602720"/>
              <a:ext cx="1233720" cy="8974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54080" y="1857240"/>
              <a:ext cx="18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76480" y="165060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07000" y="148104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95360" y="17715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066680" y="1905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1828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16765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1523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919240" y="2057400"/>
            <a:ext cx="720720" cy="107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328840" y="2362320"/>
            <a:ext cx="550800" cy="766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rcRect l="0" t="28526" r="0" b="6646"/>
          <a:stretch/>
        </p:blipFill>
        <p:spPr>
          <a:xfrm>
            <a:off x="3886200" y="1219320"/>
            <a:ext cx="4419720" cy="1904760"/>
          </a:xfrm>
          <a:prstGeom prst="rect">
            <a:avLst/>
          </a:prstGeom>
          <a:ln w="19080">
            <a:solidFill>
              <a:srgbClr val="33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pproach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34131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808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Data obtained from a new cross-shore wave and current array in the energetic environment off Duck, 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4098960"/>
            <a:ext cx="845820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t up a high-resolution wave modeling test bed for the STeady-state spectral WAVE model – Full Plane version (STWAVE-F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28526" r="0" b="6646"/>
          <a:stretch/>
        </p:blipFill>
        <p:spPr>
          <a:xfrm>
            <a:off x="3886200" y="1219320"/>
            <a:ext cx="4419720" cy="1904760"/>
          </a:xfrm>
          <a:prstGeom prst="rect">
            <a:avLst/>
          </a:prstGeom>
          <a:ln w="19080">
            <a:solidFill>
              <a:srgbClr val="33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2819520" cy="1904760"/>
          </a:xfrm>
          <a:prstGeom prst="rect">
            <a:avLst/>
          </a:prstGeom>
          <a:ln w="19080">
            <a:solidFill>
              <a:srgbClr val="33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73" name=""/>
          <p:cNvSpPr/>
          <p:nvPr/>
        </p:nvSpPr>
        <p:spPr>
          <a:xfrm>
            <a:off x="2114640" y="2387520"/>
            <a:ext cx="75960" cy="55800"/>
          </a:xfrm>
          <a:prstGeom prst="star5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080" bIns="-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1914480"/>
            <a:ext cx="74520" cy="554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90440" y="2244600"/>
            <a:ext cx="63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Inner 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32080" y="1219320"/>
            <a:ext cx="63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Outer 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579680" y="2346480"/>
            <a:ext cx="299880" cy="11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25640" y="1441440"/>
            <a:ext cx="301680" cy="8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520" y="763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pproach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34131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808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Data obtained from a new cross-shore wave and current array in the energetic environment off Duck, 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098960"/>
            <a:ext cx="845820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808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808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Set up a high-resolution wave modeling test bed for the STeady-state spectral WAVE model – Full Plane version (STWAVE-F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62284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uantify performance of the bottom friction source term in an energetic sandy coast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28526" r="0" b="6646"/>
          <a:stretch/>
        </p:blipFill>
        <p:spPr>
          <a:xfrm>
            <a:off x="3886200" y="1219320"/>
            <a:ext cx="4419720" cy="1904760"/>
          </a:xfrm>
          <a:prstGeom prst="rect">
            <a:avLst/>
          </a:prstGeom>
          <a:ln w="19080">
            <a:solidFill>
              <a:srgbClr val="33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066680" y="1219320"/>
            <a:ext cx="2286000" cy="1896840"/>
          </a:xfrm>
          <a:prstGeom prst="rect">
            <a:avLst/>
          </a:prstGeom>
          <a:ln w="19080">
            <a:solidFill>
              <a:srgbClr val="33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802480" y="1514520"/>
            <a:ext cx="2631960" cy="2692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474120" y="5737320"/>
            <a:ext cx="205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-m Arra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arshore AW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ay (5-11 m dep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19360" y="6200640"/>
            <a:ext cx="147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-m Dataw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ver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22640" y="6200640"/>
            <a:ext cx="147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-m Dataw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ver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12320" y="6227640"/>
            <a:ext cx="146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-m Weath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19280" y="6248520"/>
            <a:ext cx="189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8-m NDBC 44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430360" y="2757600"/>
            <a:ext cx="4624560" cy="17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41840" y="2757600"/>
            <a:ext cx="3381120" cy="17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776480" y="2687760"/>
            <a:ext cx="2484360" cy="17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949720" y="2743200"/>
            <a:ext cx="1299960" cy="160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192800" y="2343240"/>
            <a:ext cx="828720" cy="20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720880" y="4384800"/>
            <a:ext cx="1208160" cy="17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137120" y="4384800"/>
            <a:ext cx="1209600" cy="17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5553000" y="4316400"/>
            <a:ext cx="1293840" cy="18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7054920" y="4316400"/>
            <a:ext cx="1612800" cy="189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00" name=""/>
          <p:cNvGrpSpPr/>
          <p:nvPr/>
        </p:nvGrpSpPr>
        <p:grpSpPr>
          <a:xfrm>
            <a:off x="773280" y="4483080"/>
            <a:ext cx="1795320" cy="1238400"/>
            <a:chOff x="773280" y="4483080"/>
            <a:chExt cx="1795320" cy="1238400"/>
          </a:xfrm>
        </p:grpSpPr>
        <p:pic>
          <p:nvPicPr>
            <p:cNvPr id="201" name="" descr=""/>
            <p:cNvPicPr/>
            <p:nvPr/>
          </p:nvPicPr>
          <p:blipFill>
            <a:blip r:embed="rId6"/>
            <a:stretch/>
          </p:blipFill>
          <p:spPr>
            <a:xfrm>
              <a:off x="773280" y="4483080"/>
              <a:ext cx="1795320" cy="12384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202" name=""/>
            <p:cNvSpPr/>
            <p:nvPr/>
          </p:nvSpPr>
          <p:spPr>
            <a:xfrm>
              <a:off x="965520" y="4908240"/>
              <a:ext cx="64080" cy="68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22200" y="4839120"/>
              <a:ext cx="64080" cy="68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42600" y="4770360"/>
              <a:ext cx="64080" cy="68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19680" y="4632120"/>
              <a:ext cx="64080" cy="68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6" name="" descr=""/>
          <p:cNvPicPr/>
          <p:nvPr/>
        </p:nvPicPr>
        <p:blipFill>
          <a:blip r:embed="rId7"/>
          <a:stretch/>
        </p:blipFill>
        <p:spPr>
          <a:xfrm>
            <a:off x="1940040" y="5070600"/>
            <a:ext cx="628560" cy="690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955840" y="4627440"/>
            <a:ext cx="84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920" y="121932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Coll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80440" y="1676520"/>
            <a:ext cx="4141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Nortek AWAC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Datawell Waverider buo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DBC Station 44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er-based meteorological 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GUS Video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/7 Real-time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ly bathymetric 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8"/>
          <a:srcRect l="0" t="28526" r="0" b="6646"/>
          <a:stretch/>
        </p:blipFill>
        <p:spPr>
          <a:xfrm>
            <a:off x="4724280" y="1219320"/>
            <a:ext cx="2590920" cy="111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1" name=""/>
          <p:cNvSpPr/>
          <p:nvPr/>
        </p:nvSpPr>
        <p:spPr>
          <a:xfrm>
            <a:off x="1454760" y="243000"/>
            <a:ext cx="71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RF Cross-Shelf Wave and Current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189000"/>
            <a:ext cx="58672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coustic Wave and Currents (AWAC) Station Depths (m)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6320" y="1158840"/>
            <a:ext cx="8762760" cy="56228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031160" y="4267080"/>
            <a:ext cx="1807920" cy="2514600"/>
          </a:xfrm>
          <a:prstGeom prst="rect">
            <a:avLst/>
          </a:prstGeom>
          <a:ln w="0">
            <a:noFill/>
          </a:ln>
        </p:spPr>
      </p:pic>
      <p:grpSp>
        <p:nvGrpSpPr>
          <p:cNvPr id="215" name=""/>
          <p:cNvGrpSpPr/>
          <p:nvPr/>
        </p:nvGrpSpPr>
        <p:grpSpPr>
          <a:xfrm>
            <a:off x="976680" y="1600200"/>
            <a:ext cx="6202800" cy="3201840"/>
            <a:chOff x="976680" y="1600200"/>
            <a:chExt cx="6202800" cy="3201840"/>
          </a:xfrm>
        </p:grpSpPr>
        <p:sp>
          <p:nvSpPr>
            <p:cNvPr id="216" name=""/>
            <p:cNvSpPr/>
            <p:nvPr/>
          </p:nvSpPr>
          <p:spPr>
            <a:xfrm>
              <a:off x="1219320" y="3201840"/>
              <a:ext cx="1828800" cy="1600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09680" y="2897280"/>
              <a:ext cx="838440" cy="1904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3048120" y="2516040"/>
              <a:ext cx="1218960" cy="2286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3047760" y="1982880"/>
              <a:ext cx="3733560" cy="2819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76680" y="278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41000" y="21351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55240" y="160020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82880" y="25146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 rot="20877000">
            <a:off x="365040" y="4830480"/>
            <a:ext cx="1121040" cy="3682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F P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76320"/>
            <a:ext cx="6476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ross-Shore Transect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763120" cy="5486400"/>
          </a:xfrm>
          <a:prstGeom prst="rect">
            <a:avLst/>
          </a:prstGeom>
          <a:ln w="0">
            <a:noFill/>
          </a:ln>
        </p:spPr>
      </p:pic>
      <p:grpSp>
        <p:nvGrpSpPr>
          <p:cNvPr id="227" name=""/>
          <p:cNvGrpSpPr/>
          <p:nvPr/>
        </p:nvGrpSpPr>
        <p:grpSpPr>
          <a:xfrm>
            <a:off x="5638680" y="1185840"/>
            <a:ext cx="3429000" cy="2809080"/>
            <a:chOff x="5638680" y="1185840"/>
            <a:chExt cx="3429000" cy="280908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5638680" y="1185840"/>
              <a:ext cx="3429000" cy="24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6331680" y="3657600"/>
              <a:ext cx="196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SGS Deploy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067400" y="3657600"/>
            <a:ext cx="5810400" cy="2881800"/>
            <a:chOff x="1067400" y="3657600"/>
            <a:chExt cx="5810400" cy="2881800"/>
          </a:xfrm>
        </p:grpSpPr>
        <p:grpSp>
          <p:nvGrpSpPr>
            <p:cNvPr id="231" name=""/>
            <p:cNvGrpSpPr/>
            <p:nvPr/>
          </p:nvGrpSpPr>
          <p:grpSpPr>
            <a:xfrm>
              <a:off x="1067400" y="4114800"/>
              <a:ext cx="5810400" cy="2424600"/>
              <a:chOff x="1067400" y="4114800"/>
              <a:chExt cx="5810400" cy="2424600"/>
            </a:xfrm>
          </p:grpSpPr>
          <p:grpSp>
            <p:nvGrpSpPr>
              <p:cNvPr id="232" name=""/>
              <p:cNvGrpSpPr/>
              <p:nvPr/>
            </p:nvGrpSpPr>
            <p:grpSpPr>
              <a:xfrm>
                <a:off x="2362320" y="4114800"/>
                <a:ext cx="4515480" cy="2424600"/>
                <a:chOff x="2362320" y="4114800"/>
                <a:chExt cx="4515480" cy="2424600"/>
              </a:xfrm>
            </p:grpSpPr>
            <p:pic>
              <p:nvPicPr>
                <p:cNvPr id="233" name="" descr=""/>
                <p:cNvPicPr/>
                <p:nvPr/>
              </p:nvPicPr>
              <p:blipFill>
                <a:blip r:embed="rId3"/>
                <a:srcRect l="0" t="0" r="0" b="18184"/>
                <a:stretch/>
              </p:blipFill>
              <p:spPr>
                <a:xfrm>
                  <a:off x="2362320" y="4876920"/>
                  <a:ext cx="1204920" cy="13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4" name=""/>
                <p:cNvSpPr/>
                <p:nvPr/>
              </p:nvSpPr>
              <p:spPr>
                <a:xfrm>
                  <a:off x="2362320" y="4114800"/>
                  <a:ext cx="380880" cy="685800"/>
                </a:xfrm>
                <a:prstGeom prst="line">
                  <a:avLst/>
                </a:prstGeom>
                <a:ln w="1908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flipH="1">
                  <a:off x="2819160" y="4495680"/>
                  <a:ext cx="228600" cy="304920"/>
                </a:xfrm>
                <a:prstGeom prst="line">
                  <a:avLst/>
                </a:prstGeom>
                <a:ln w="1908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3657240" y="5029200"/>
                  <a:ext cx="685800" cy="228600"/>
                </a:xfrm>
                <a:prstGeom prst="line">
                  <a:avLst/>
                </a:prstGeom>
                <a:ln w="1908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flipV="1">
                  <a:off x="3733560" y="5486040"/>
                  <a:ext cx="1981080" cy="152280"/>
                </a:xfrm>
                <a:prstGeom prst="line">
                  <a:avLst/>
                </a:prstGeom>
                <a:ln w="19080">
                  <a:solidFill>
                    <a:srgbClr val="33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577680" y="5562720"/>
                  <a:ext cx="3300120" cy="97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WAC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irectional Wav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Vertical Curren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abled to shore – Real-time telemetr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1067400" y="4871880"/>
                <a:ext cx="1249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Outer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Surf Zo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2211480" y="36576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-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81600" y="41292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-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53200" y="47386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-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825160" y="533412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-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38080" y="1442880"/>
            <a:ext cx="4572000" cy="2291040"/>
            <a:chOff x="838080" y="1442880"/>
            <a:chExt cx="4572000" cy="2291040"/>
          </a:xfrm>
        </p:grpSpPr>
        <p:grpSp>
          <p:nvGrpSpPr>
            <p:cNvPr id="245" name=""/>
            <p:cNvGrpSpPr/>
            <p:nvPr/>
          </p:nvGrpSpPr>
          <p:grpSpPr>
            <a:xfrm>
              <a:off x="838080" y="1447920"/>
              <a:ext cx="4263120" cy="2286000"/>
              <a:chOff x="838080" y="1447920"/>
              <a:chExt cx="4263120" cy="2286000"/>
            </a:xfrm>
          </p:grpSpPr>
          <p:sp>
            <p:nvSpPr>
              <p:cNvPr id="246" name=""/>
              <p:cNvSpPr/>
              <p:nvPr/>
            </p:nvSpPr>
            <p:spPr>
              <a:xfrm>
                <a:off x="1600200" y="3657600"/>
                <a:ext cx="76320" cy="76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38080" y="3048120"/>
                <a:ext cx="76320" cy="759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8" name=""/>
              <p:cNvGrpSpPr/>
              <p:nvPr/>
            </p:nvGrpSpPr>
            <p:grpSpPr>
              <a:xfrm>
                <a:off x="914400" y="1447920"/>
                <a:ext cx="4186800" cy="2133360"/>
                <a:chOff x="914400" y="1447920"/>
                <a:chExt cx="4186800" cy="2133360"/>
              </a:xfrm>
            </p:grpSpPr>
            <p:pic>
              <p:nvPicPr>
                <p:cNvPr id="24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76520" y="1447920"/>
                  <a:ext cx="1600200" cy="120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0" name=""/>
                <p:cNvSpPr/>
                <p:nvPr/>
              </p:nvSpPr>
              <p:spPr>
                <a:xfrm flipV="1">
                  <a:off x="914400" y="2590920"/>
                  <a:ext cx="685800" cy="4572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V="1">
                  <a:off x="1676520" y="2666880"/>
                  <a:ext cx="380880" cy="9144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347640" y="2284560"/>
                  <a:ext cx="175356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QUADOPP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irectional Wav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Vertical Curren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abled to shore – 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    Real-time 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3" name=""/>
            <p:cNvSpPr/>
            <p:nvPr/>
          </p:nvSpPr>
          <p:spPr>
            <a:xfrm>
              <a:off x="3352680" y="14428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Coming Soo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Inner Surf Z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78320" y="33526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-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68480" y="28335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-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47920" y="763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pril 2009 Nor’easter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1103400"/>
            <a:ext cx="9144000" cy="575460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2872080" y="1295280"/>
            <a:ext cx="1110240" cy="4876920"/>
            <a:chOff x="2872080" y="1295280"/>
            <a:chExt cx="1110240" cy="4876920"/>
          </a:xfrm>
        </p:grpSpPr>
        <p:sp>
          <p:nvSpPr>
            <p:cNvPr id="259" name=""/>
            <p:cNvSpPr/>
            <p:nvPr/>
          </p:nvSpPr>
          <p:spPr>
            <a:xfrm>
              <a:off x="3405240" y="1600200"/>
              <a:ext cx="0" cy="45720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72080" y="1295280"/>
              <a:ext cx="111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On-sho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103760" y="152388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W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97280" y="329076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Wave 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01960" y="496728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eak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21:51:44Z</dcterms:created>
  <dc:creator>FRF</dc:creator>
  <dc:description/>
  <dc:language>en-US</dc:language>
  <cp:lastModifiedBy>Jeff hanson</cp:lastModifiedBy>
  <dcterms:modified xsi:type="dcterms:W3CDTF">2010-02-19T18:51:33Z</dcterms:modified>
  <cp:revision>181</cp:revision>
  <dc:subject/>
  <dc:title>Slide 1</dc:title>
</cp:coreProperties>
</file>